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08E-797A-4FC1-A224-A902B059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F24-3126-467B-BBFE-19DED024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182-3AE5-425D-8B52-4F953151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16D-3A09-4F42-B278-DE70F90B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455-A5E8-434F-9CD1-3D3B9EC0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736-4DD1-470D-9F09-54807923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4DD-2B4A-4EAD-A5CF-F11F78F3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0FB-9B38-4348-A42F-4CE26A18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85D-6BF0-4E14-AEFF-EF82D33C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D94-A18E-42D0-86EF-8CFF2410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CDC-4A9C-4CC8-8C18-08C50AFD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E2A-7E6F-4540-B897-6106706C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8645-2A4D-4C3F-9698-BBDA2CD83A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0" descr="png-1835"/>
          <p:cNvPicPr/>
          <p:nvPr/>
        </p:nvPicPr>
        <p:blipFill>
          <a:blip r:embed="rId3"/>
          <a:stretch/>
        </p:blipFill>
        <p:spPr>
          <a:xfrm>
            <a:off x="914400" y="152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8" descr="8"/>
          <p:cNvPicPr/>
          <p:nvPr/>
        </p:nvPicPr>
        <p:blipFill>
          <a:blip r:embed="rId4"/>
          <a:stretch/>
        </p:blipFill>
        <p:spPr>
          <a:xfrm>
            <a:off x="7115040" y="4114800"/>
            <a:ext cx="20289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hyperlink" Target="file:///tmp/home/.config/libreoffice/4/user/gallery/hammer.wav" TargetMode="Externa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34892;&#25919;&#20826;&#32676;&#31867;&#21367;&#20869;&#30446;&#24405;(&#26631;&#20934;).xls" TargetMode="External"/><Relationship Id="rId2" Type="http://schemas.openxmlformats.org/officeDocument/2006/relationships/hyperlink" Target="file:///&#22791;&#32771;&#34920;.doc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26696;&#21367;&#23553;&#30382;.jpg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SSN00877_0000[1]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0" descr="png-1835"/>
          <p:cNvPicPr/>
          <p:nvPr/>
        </p:nvPicPr>
        <p:blipFill>
          <a:blip r:embed="rId3"/>
          <a:stretch/>
        </p:blipFill>
        <p:spPr>
          <a:xfrm>
            <a:off x="762120" y="5410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8"/>
          <p:cNvPicPr/>
          <p:nvPr/>
        </p:nvPicPr>
        <p:blipFill>
          <a:blip r:embed="rId4"/>
          <a:stretch/>
        </p:blipFill>
        <p:spPr>
          <a:xfrm>
            <a:off x="6781680" y="3962520"/>
            <a:ext cx="202896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底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>
            <a:hlinkClick r:id="rId6"/>
          </p:cNvPr>
          <p:cNvSpPr/>
          <p:nvPr/>
        </p:nvSpPr>
        <p:spPr>
          <a:xfrm>
            <a:off x="609480" y="728640"/>
            <a:ext cx="69930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楷体"/>
                <a:ea typeface="楷体"/>
              </a:rPr>
              <a:t>西建大兼职档案员培训讲座</a:t>
            </a:r>
            <a:endParaRPr b="1" lang="en-US" sz="6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819160" y="1599840"/>
            <a:ext cx="5562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综合管理性文件，以问题为主，兼顾作者、时间、文种等特征组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科研、基建、审计、设备等成套材料分别按项目、阶段等组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会议文件按会议届次组卷，一会一卷或数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统计报表、名册、简报、出版物等按名称一册一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295280" y="838080"/>
            <a:ext cx="1523880" cy="5410440"/>
            <a:chOff x="1295280" y="838080"/>
            <a:chExt cx="1523880" cy="5410440"/>
          </a:xfrm>
        </p:grpSpPr>
        <p:sp>
          <p:nvSpPr>
            <p:cNvPr id="150" name="AutoShape 6"/>
            <p:cNvSpPr/>
            <p:nvPr/>
          </p:nvSpPr>
          <p:spPr>
            <a:xfrm>
              <a:off x="1295280" y="1371600"/>
              <a:ext cx="1523880" cy="464832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1714320" y="838080"/>
              <a:ext cx="685800" cy="54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3.</a:t>
              </a:r>
              <a:br>
                <a:rPr sz="3200"/>
              </a:br>
              <a:r>
                <a:rPr b="0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立卷方法以卷为单位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090520" y="1774440"/>
            <a:ext cx="6476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按重要程度或时间顺序排列（先上级后本校，然后二级单位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057400" y="533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卷内文件的排列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4" name="组合 1"/>
          <p:cNvGrpSpPr/>
          <p:nvPr/>
        </p:nvGrpSpPr>
        <p:grpSpPr>
          <a:xfrm>
            <a:off x="1673640" y="1368720"/>
            <a:ext cx="6860880" cy="1069560"/>
            <a:chOff x="1673640" y="1368720"/>
            <a:chExt cx="6860880" cy="1069560"/>
          </a:xfrm>
        </p:grpSpPr>
        <p:sp>
          <p:nvSpPr>
            <p:cNvPr id="155" name="AutoShape 10"/>
            <p:cNvSpPr/>
            <p:nvPr/>
          </p:nvSpPr>
          <p:spPr>
            <a:xfrm>
              <a:off x="2057400" y="1531800"/>
              <a:ext cx="6477120" cy="906480"/>
            </a:xfrm>
            <a:prstGeom prst="flowChartPunchedTape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6" name="AutoShape 12"/>
            <p:cNvSpPr/>
            <p:nvPr/>
          </p:nvSpPr>
          <p:spPr>
            <a:xfrm rot="470400">
              <a:off x="1719360" y="1414080"/>
              <a:ext cx="718920" cy="719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800000"/>
                </a:gs>
              </a:gsLst>
              <a:lin ang="49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⑴         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7" name="Rectangle 8"/>
          <p:cNvSpPr/>
          <p:nvPr/>
        </p:nvSpPr>
        <p:spPr>
          <a:xfrm>
            <a:off x="5065920" y="2624040"/>
            <a:ext cx="7599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会议文件按会议通知、代表名单、议程、开幕词、大会报告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领导讲话、会议发文、决议、选举、总结等顺序排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8" name="组合 12"/>
          <p:cNvGrpSpPr/>
          <p:nvPr/>
        </p:nvGrpSpPr>
        <p:grpSpPr>
          <a:xfrm>
            <a:off x="1095120" y="2388600"/>
            <a:ext cx="7439400" cy="1129320"/>
            <a:chOff x="1095120" y="2388600"/>
            <a:chExt cx="7439400" cy="1129320"/>
          </a:xfrm>
        </p:grpSpPr>
        <p:sp>
          <p:nvSpPr>
            <p:cNvPr id="159" name="AutoShape 10"/>
            <p:cNvSpPr/>
            <p:nvPr/>
          </p:nvSpPr>
          <p:spPr>
            <a:xfrm>
              <a:off x="1509480" y="2562120"/>
              <a:ext cx="7025040" cy="955800"/>
            </a:xfrm>
            <a:prstGeom prst="flowChartPunchedTape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0" name="AutoShape 12"/>
            <p:cNvSpPr/>
            <p:nvPr/>
          </p:nvSpPr>
          <p:spPr>
            <a:xfrm rot="470400">
              <a:off x="1143000" y="2437920"/>
              <a:ext cx="779760" cy="758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800000"/>
                </a:gs>
              </a:gsLst>
              <a:lin ang="49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</a:rPr>
                <a:t>(2)</a:t>
              </a: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         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1" name="组合 15"/>
          <p:cNvGrpSpPr/>
          <p:nvPr/>
        </p:nvGrpSpPr>
        <p:grpSpPr>
          <a:xfrm>
            <a:off x="762480" y="3518280"/>
            <a:ext cx="6860520" cy="1069560"/>
            <a:chOff x="762480" y="3518280"/>
            <a:chExt cx="6860520" cy="1069560"/>
          </a:xfrm>
        </p:grpSpPr>
        <p:sp>
          <p:nvSpPr>
            <p:cNvPr id="162" name="AutoShape 10"/>
            <p:cNvSpPr/>
            <p:nvPr/>
          </p:nvSpPr>
          <p:spPr>
            <a:xfrm>
              <a:off x="1146240" y="3681360"/>
              <a:ext cx="6476760" cy="906480"/>
            </a:xfrm>
            <a:prstGeom prst="flowChartPunchedTape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3" name="AutoShape 12"/>
            <p:cNvSpPr/>
            <p:nvPr/>
          </p:nvSpPr>
          <p:spPr>
            <a:xfrm rot="470400">
              <a:off x="808200" y="3563640"/>
              <a:ext cx="718920" cy="719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800000"/>
                </a:gs>
              </a:gsLst>
              <a:lin ang="49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</a:rPr>
                <a:t>(3)</a:t>
              </a: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         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4" name="组合 18"/>
          <p:cNvGrpSpPr/>
          <p:nvPr/>
        </p:nvGrpSpPr>
        <p:grpSpPr>
          <a:xfrm>
            <a:off x="381240" y="4631040"/>
            <a:ext cx="6860880" cy="1069560"/>
            <a:chOff x="381240" y="4631040"/>
            <a:chExt cx="6860880" cy="1069560"/>
          </a:xfrm>
        </p:grpSpPr>
        <p:sp>
          <p:nvSpPr>
            <p:cNvPr id="165" name="AutoShape 10"/>
            <p:cNvSpPr/>
            <p:nvPr/>
          </p:nvSpPr>
          <p:spPr>
            <a:xfrm>
              <a:off x="765000" y="4794120"/>
              <a:ext cx="6477120" cy="906480"/>
            </a:xfrm>
            <a:prstGeom prst="flowChartPunchedTape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6" name="AutoShape 12"/>
            <p:cNvSpPr/>
            <p:nvPr/>
          </p:nvSpPr>
          <p:spPr>
            <a:xfrm rot="470400">
              <a:off x="426960" y="4676400"/>
              <a:ext cx="718920" cy="719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800000"/>
                </a:gs>
              </a:gsLst>
              <a:lin ang="49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</a:rPr>
                <a:t>(4)</a:t>
              </a: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         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7" name="Rectangle 8"/>
          <p:cNvSpPr/>
          <p:nvPr/>
        </p:nvSpPr>
        <p:spPr>
          <a:xfrm>
            <a:off x="4323600" y="3957480"/>
            <a:ext cx="6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科研项目按申请、研究、总结、申报、应用等阶段排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753000" y="5046840"/>
            <a:ext cx="5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基建项目按前期准备、设计、施工、竣工阶段排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1981080" y="685800"/>
            <a:ext cx="60962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份文件的装订顺序为：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457200" y="1676520"/>
            <a:ext cx="3886200" cy="66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4648320" y="1676520"/>
            <a:ext cx="3962160" cy="66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85800" y="1736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正本在前，修改稿在后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029200" y="1752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正文在前，附件在后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85800" y="2589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原件在前，发文稿在后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457200" y="2514600"/>
            <a:ext cx="3886200" cy="66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4648320" y="3328920"/>
            <a:ext cx="3962160" cy="66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457200" y="3328920"/>
            <a:ext cx="3886200" cy="66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AutoShape 13"/>
          <p:cNvSpPr/>
          <p:nvPr/>
        </p:nvSpPr>
        <p:spPr>
          <a:xfrm>
            <a:off x="4648320" y="2514600"/>
            <a:ext cx="3962160" cy="66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85800" y="3402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批复在前，请示在后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457200" y="4143240"/>
            <a:ext cx="6477120" cy="66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AutoShape 16"/>
          <p:cNvSpPr/>
          <p:nvPr/>
        </p:nvSpPr>
        <p:spPr>
          <a:xfrm>
            <a:off x="457200" y="4956120"/>
            <a:ext cx="6477120" cy="66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685800" y="4290840"/>
            <a:ext cx="5257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结论性材料在前，依据性材料在后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685800" y="5029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汉文本在前，其他语言文字文本在后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4648320" y="2585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转发文在前，被转发文在后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4724280" y="3402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文字材料在前，图样在后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⑴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编页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成卷装订的案卷，在有文字一面非装订线一侧的下角，用打号机打上页号；空白页面不编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一张纸上若贴有若干张小纸，每张小纸也算一页；一张大纸若折叠成几张，仍按一页计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页号不漏不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书籍、杂志等能利用原有页号的，可不再编号，按“卷”对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声像材料应在装具上或材料的背面逐件编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5720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3033360" y="533520"/>
            <a:ext cx="32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编制卷内目录和备考表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1"/>
              </a:rPr>
              <a:t>卷内文件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卷内文件目录标明文件顺序号、责任者、题名、文件形成日期、所在页号等，为文件的查找和利用提供了方便（放置卷内文件上部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3)</a:t>
            </a:r>
            <a:r>
              <a:rPr b="1" lang="zh-CN" sz="24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2"/>
              </a:rPr>
              <a:t>备考表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备考表内容包括：本卷情况说明、立卷人、检查人、立卷时间四个部分（放置文件最后页）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762120" y="3276720"/>
            <a:ext cx="7543800" cy="0"/>
          </a:xfrm>
          <a:prstGeom prst="line">
            <a:avLst/>
          </a:prstGeom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685800" y="4800600"/>
            <a:ext cx="7543800" cy="0"/>
          </a:xfrm>
          <a:prstGeom prst="line">
            <a:avLst/>
          </a:prstGeom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Freeform 9"/>
          <p:cNvSpPr/>
          <p:nvPr/>
        </p:nvSpPr>
        <p:spPr>
          <a:xfrm rot="2902800">
            <a:off x="3612960" y="5073120"/>
            <a:ext cx="1079640" cy="99072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b1717">
                  <a:alpha val="32156"/>
                </a:srgbClr>
              </a:gs>
              <a:gs pos="100000">
                <a:srgbClr val="800000"/>
              </a:gs>
            </a:gsLst>
            <a:lin ang="18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4121640" y="5967360"/>
            <a:ext cx="1034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NEXT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1622880" y="499896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以上如图示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3033360" y="533520"/>
            <a:ext cx="32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编制卷内目录和备考表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14600" y="8380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卷内文件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1330200"/>
          <a:ext cx="8229600" cy="2316240"/>
        </p:xfrm>
        <a:graphic>
          <a:graphicData uri="http://schemas.openxmlformats.org/drawingml/2006/table">
            <a:tbl>
              <a:tblPr/>
              <a:tblGrid>
                <a:gridCol w="308160"/>
                <a:gridCol w="1520640"/>
                <a:gridCol w="1143000"/>
                <a:gridCol w="2133720"/>
                <a:gridCol w="1125360"/>
                <a:gridCol w="551160"/>
                <a:gridCol w="144756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序号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文件</a:t>
                      </a:r>
                      <a:br>
                        <a:rPr sz="1600"/>
                      </a:b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编号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责任</a:t>
                      </a:r>
                      <a:br>
                        <a:rPr sz="1600"/>
                      </a:b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者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题名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形成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日期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页</a:t>
                      </a:r>
                      <a:br>
                        <a:rPr sz="1600"/>
                      </a:b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备</a:t>
                      </a:r>
                      <a:br>
                        <a:rPr sz="1600"/>
                      </a:b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注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西建大校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号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西建大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关于做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年固定资产清查工作的通知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2122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 …</a:t>
                      </a:r>
                      <a:endParaRPr b="1" lang="en-US" sz="25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gridSpan="7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629080" y="3809880"/>
          <a:ext cx="3886200" cy="2676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267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卷内文件说明：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     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               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立 卷 人：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               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检 查 人：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ⅹ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        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立卷时间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4.6.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153"/>
          <p:cNvSpPr/>
          <p:nvPr/>
        </p:nvSpPr>
        <p:spPr>
          <a:xfrm>
            <a:off x="2438280" y="3276720"/>
            <a:ext cx="4038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备考表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2057400" y="266760"/>
            <a:ext cx="60958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填写案卷封面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57200" y="1425600"/>
            <a:ext cx="822960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1"/>
              </a:rPr>
              <a:t>填写内容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包括档号、案卷标题、归档单位、起止日期、保管期限、密级等项，没有“密级”的应划斜杠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档  号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609480" y="2813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模式为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985680" y="35434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方正姚体"/>
              </a:rPr>
              <a:t>年度号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914400" y="3422520"/>
            <a:ext cx="1600200" cy="762120"/>
          </a:xfrm>
          <a:prstGeom prst="flowChartConnector">
            <a:avLst/>
          </a:prstGeom>
          <a:solidFill>
            <a:srgbClr val="808000">
              <a:alpha val="38000"/>
            </a:srgbClr>
          </a:solidFill>
          <a:ln w="255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6357960" y="3543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方正姚体"/>
              </a:rPr>
              <a:t>案卷号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3657600" y="3543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方正姚体"/>
              </a:rPr>
              <a:t>分类号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3581280" y="3422520"/>
            <a:ext cx="1600200" cy="762120"/>
          </a:xfrm>
          <a:prstGeom prst="flowChartConnector">
            <a:avLst/>
          </a:prstGeom>
          <a:solidFill>
            <a:srgbClr val="808000">
              <a:alpha val="38000"/>
            </a:srgbClr>
          </a:solidFill>
          <a:ln w="255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6248520" y="3422520"/>
            <a:ext cx="1600200" cy="762120"/>
          </a:xfrm>
          <a:prstGeom prst="flowChartConnector">
            <a:avLst/>
          </a:prstGeom>
          <a:solidFill>
            <a:srgbClr val="808000">
              <a:alpha val="38000"/>
            </a:srgbClr>
          </a:solidFill>
          <a:ln w="255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447920" y="4816440"/>
            <a:ext cx="4800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例如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next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2819520" y="3803760"/>
            <a:ext cx="380880" cy="0"/>
          </a:xfrm>
          <a:prstGeom prst="line">
            <a:avLst/>
          </a:prstGeom>
          <a:ln w="507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486400" y="3803760"/>
            <a:ext cx="380880" cy="0"/>
          </a:xfrm>
          <a:prstGeom prst="line">
            <a:avLst/>
          </a:prstGeom>
          <a:ln w="507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190440" y="424980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由四个阿拉伯数字组成）    （体系结构）    （二级类目下的盒号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Freeform 18"/>
          <p:cNvSpPr/>
          <p:nvPr/>
        </p:nvSpPr>
        <p:spPr>
          <a:xfrm rot="2902800">
            <a:off x="2698560" y="4884120"/>
            <a:ext cx="1079640" cy="99072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b1717">
                  <a:alpha val="32156"/>
                </a:srgbClr>
              </a:gs>
              <a:gs pos="100000">
                <a:srgbClr val="800000"/>
              </a:gs>
            </a:gsLst>
            <a:lin ang="18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9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1447920" y="1554120"/>
            <a:ext cx="6476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013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宋体"/>
              </a:rPr>
              <a:t>XZ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33cc"/>
                </a:solidFill>
                <a:latin typeface="Arial"/>
                <a:ea typeface="宋体"/>
              </a:rPr>
              <a:t>11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1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971800" y="1882800"/>
            <a:ext cx="380880" cy="0"/>
          </a:xfrm>
          <a:prstGeom prst="line">
            <a:avLst/>
          </a:prstGeom>
          <a:ln w="507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5486400" y="1882800"/>
            <a:ext cx="380880" cy="0"/>
          </a:xfrm>
          <a:prstGeom prst="line">
            <a:avLst/>
          </a:prstGeom>
          <a:ln w="507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2057400" y="2416320"/>
            <a:ext cx="0" cy="533160"/>
          </a:xfrm>
          <a:prstGeom prst="line">
            <a:avLst/>
          </a:prstGeom>
          <a:ln w="442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Rectangle 8"/>
          <p:cNvSpPr/>
          <p:nvPr/>
        </p:nvSpPr>
        <p:spPr>
          <a:xfrm rot="16200000">
            <a:off x="2984760" y="422280"/>
            <a:ext cx="7696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663300"/>
                </a:solidFill>
                <a:latin typeface="Arial"/>
                <a:ea typeface="黑体"/>
              </a:rPr>
              <a:t>﹛</a:t>
            </a:r>
            <a:r>
              <a:rPr b="0" lang="en-US" sz="9200" spc="-1" strike="noStrike">
                <a:solidFill>
                  <a:srgbClr val="808000"/>
                </a:solidFill>
                <a:latin typeface="Arial"/>
                <a:ea typeface="黑体"/>
              </a:rPr>
              <a:t>   </a:t>
            </a:r>
            <a:endParaRPr b="1" lang="en-US" sz="9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Rectangle 9"/>
          <p:cNvSpPr/>
          <p:nvPr/>
        </p:nvSpPr>
        <p:spPr>
          <a:xfrm rot="16200000">
            <a:off x="3944160" y="1892160"/>
            <a:ext cx="770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663300"/>
                </a:solidFill>
                <a:latin typeface="Arial"/>
                <a:ea typeface="黑体"/>
              </a:rPr>
              <a:t>﹛</a:t>
            </a:r>
            <a:endParaRPr b="1" lang="en-US" sz="9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4419720" y="2416320"/>
            <a:ext cx="0" cy="533160"/>
          </a:xfrm>
          <a:prstGeom prst="line">
            <a:avLst/>
          </a:prstGeom>
          <a:ln w="45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Rectangle 11"/>
          <p:cNvSpPr/>
          <p:nvPr/>
        </p:nvSpPr>
        <p:spPr>
          <a:xfrm rot="16200000">
            <a:off x="6062760" y="1763280"/>
            <a:ext cx="770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3300"/>
                </a:solidFill>
                <a:latin typeface="Arial"/>
                <a:ea typeface="黑体"/>
              </a:rPr>
              <a:t>﹛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6477120" y="2187720"/>
            <a:ext cx="0" cy="60948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1371600" y="310212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年度号            分类号         案卷号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3886200" y="2111400"/>
            <a:ext cx="4572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4572000" y="2111400"/>
            <a:ext cx="457200" cy="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4114800" y="2111400"/>
            <a:ext cx="0" cy="2057400"/>
          </a:xfrm>
          <a:prstGeom prst="line">
            <a:avLst/>
          </a:prstGeom>
          <a:ln w="3312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Line 17"/>
          <p:cNvSpPr/>
          <p:nvPr/>
        </p:nvSpPr>
        <p:spPr>
          <a:xfrm>
            <a:off x="4800600" y="2111400"/>
            <a:ext cx="0" cy="2057400"/>
          </a:xfrm>
          <a:prstGeom prst="line">
            <a:avLst/>
          </a:prstGeom>
          <a:ln w="331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3581280" y="3787920"/>
            <a:ext cx="8384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仿宋_GB2312"/>
              </a:rPr>
              <a:t>     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仿宋_GB2312"/>
              </a:rPr>
              <a:t>一</a:t>
            </a:r>
            <a:br>
              <a:rPr sz="2200"/>
            </a:b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仿宋_GB2312"/>
              </a:rPr>
              <a:t>级</a:t>
            </a:r>
            <a:br>
              <a:rPr sz="2200"/>
            </a:b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仿宋_GB2312"/>
              </a:rPr>
              <a:t>类</a:t>
            </a:r>
            <a:br>
              <a:rPr sz="2200"/>
            </a:br>
            <a:r>
              <a:rPr b="1" lang="zh-CN" sz="2200" spc="-1" strike="noStrike">
                <a:solidFill>
                  <a:srgbClr val="333399"/>
                </a:solidFill>
                <a:latin typeface="Arial"/>
                <a:ea typeface="仿宋_GB2312"/>
              </a:rPr>
              <a:t>目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4191120" y="4016520"/>
            <a:ext cx="990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200" spc="-1" strike="noStrike">
                <a:solidFill>
                  <a:srgbClr val="ff33cc"/>
                </a:solidFill>
                <a:latin typeface="Arial"/>
                <a:ea typeface="仿宋_GB2312"/>
              </a:rPr>
              <a:t>二</a:t>
            </a:r>
            <a:br>
              <a:rPr sz="2200"/>
            </a:br>
            <a:r>
              <a:rPr b="1" lang="zh-CN" sz="2200" spc="-1" strike="noStrike">
                <a:solidFill>
                  <a:srgbClr val="ff33cc"/>
                </a:solidFill>
                <a:latin typeface="Arial"/>
                <a:ea typeface="仿宋_GB2312"/>
              </a:rPr>
              <a:t> 级</a:t>
            </a:r>
            <a:br>
              <a:rPr sz="2200"/>
            </a:br>
            <a:r>
              <a:rPr b="1" lang="zh-CN" sz="2200" spc="-1" strike="noStrike">
                <a:solidFill>
                  <a:srgbClr val="ff33cc"/>
                </a:solidFill>
                <a:latin typeface="Arial"/>
                <a:ea typeface="仿宋_GB2312"/>
              </a:rPr>
              <a:t> 类</a:t>
            </a:r>
            <a:br>
              <a:rPr sz="2200"/>
            </a:br>
            <a:r>
              <a:rPr b="1" lang="zh-CN" sz="2200" spc="-1" strike="noStrike">
                <a:solidFill>
                  <a:srgbClr val="ff33cc"/>
                </a:solidFill>
                <a:latin typeface="Arial"/>
                <a:ea typeface="仿宋_GB2312"/>
              </a:rPr>
              <a:t> 目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304920" y="1982880"/>
            <a:ext cx="2514600" cy="31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即对本卷盒内所有文件概括名称。要求简练准确，不超过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字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如图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533520" y="1447920"/>
            <a:ext cx="2286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案卷题名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AutoShape 106"/>
          <p:cNvSpPr/>
          <p:nvPr/>
        </p:nvSpPr>
        <p:spPr>
          <a:xfrm>
            <a:off x="1157400" y="4267080"/>
            <a:ext cx="685800" cy="304920"/>
          </a:xfrm>
          <a:custGeom>
            <a:avLst/>
            <a:gdLst>
              <a:gd name="textAreaLeft" fmla="*/ 10692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922480" y="762120"/>
          <a:ext cx="5808600" cy="5197320"/>
        </p:xfrm>
        <a:graphic>
          <a:graphicData uri="http://schemas.openxmlformats.org/drawingml/2006/table">
            <a:tbl>
              <a:tblPr/>
              <a:tblGrid>
                <a:gridCol w="580860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责任者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+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关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+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问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+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文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例：西建大关于报废房屋资产的请示批复、成立招标办公室和印发招标管理办法的请示、会议纪要和通知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责任者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+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时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+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问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+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文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例：西建大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2013</a:t>
                      </a: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年工作总结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专业名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+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班级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+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材料名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例：西建大土木工程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2010</a:t>
                      </a: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级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01</a:t>
                      </a: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班本科成绩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出版物名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+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针对时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+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期刊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例：西安建筑科技大学学报（自然版）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2013</a:t>
                      </a: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年第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至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项目名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+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阶段名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+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文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例：西建大环工楼竣工验收通知、报告、会议记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52120" y="990360"/>
            <a:ext cx="6248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案卷的装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去除卷内文件上的金属物（订书钉、大头针等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文件没留装订线的要贴补加边，破损的要裱糊好，幅面较大的要折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将卷内文件目录放卷首、备考表置卷末，左、下对齐，用三孔一线法（孔距 八公分 ）装订牢固，注意不倒置、不散页、不压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1"/>
          <p:cNvGrpSpPr/>
          <p:nvPr/>
        </p:nvGrpSpPr>
        <p:grpSpPr>
          <a:xfrm>
            <a:off x="64440" y="762120"/>
            <a:ext cx="8632080" cy="5955840"/>
            <a:chOff x="64440" y="762120"/>
            <a:chExt cx="8632080" cy="5955840"/>
          </a:xfrm>
        </p:grpSpPr>
        <p:grpSp>
          <p:nvGrpSpPr>
            <p:cNvPr id="53" name="Group 43"/>
            <p:cNvGrpSpPr/>
            <p:nvPr/>
          </p:nvGrpSpPr>
          <p:grpSpPr>
            <a:xfrm>
              <a:off x="64440" y="762120"/>
              <a:ext cx="8632080" cy="5955840"/>
              <a:chOff x="64440" y="762120"/>
              <a:chExt cx="8632080" cy="5955840"/>
            </a:xfrm>
          </p:grpSpPr>
          <p:sp>
            <p:nvSpPr>
              <p:cNvPr id="54" name="Oval 28"/>
              <p:cNvSpPr/>
              <p:nvPr/>
            </p:nvSpPr>
            <p:spPr>
              <a:xfrm rot="20056200">
                <a:off x="7545240" y="3276360"/>
                <a:ext cx="1079640" cy="43164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84a5ca"/>
                  </a:gs>
                </a:gsLst>
                <a:lin ang="1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5" name="Freeform 5"/>
              <p:cNvSpPr/>
              <p:nvPr/>
            </p:nvSpPr>
            <p:spPr>
              <a:xfrm rot="20241600">
                <a:off x="609480" y="2133720"/>
                <a:ext cx="7767720" cy="3213000"/>
              </a:xfrm>
              <a:custGeom>
                <a:avLst/>
                <a:gdLst/>
                <a:ahLst/>
                <a:rect l="l" t="t" r="r" b="b"/>
                <a:pathLst>
                  <a:path w="4040" h="1888">
                    <a:moveTo>
                      <a:pt x="2020" y="0"/>
                    </a:moveTo>
                    <a:lnTo>
                      <a:pt x="1854" y="4"/>
                    </a:lnTo>
                    <a:lnTo>
                      <a:pt x="1692" y="12"/>
                    </a:lnTo>
                    <a:lnTo>
                      <a:pt x="1534" y="28"/>
                    </a:lnTo>
                    <a:lnTo>
                      <a:pt x="1382" y="48"/>
                    </a:lnTo>
                    <a:lnTo>
                      <a:pt x="1234" y="74"/>
                    </a:lnTo>
                    <a:lnTo>
                      <a:pt x="1092" y="106"/>
                    </a:lnTo>
                    <a:lnTo>
                      <a:pt x="956" y="142"/>
                    </a:lnTo>
                    <a:lnTo>
                      <a:pt x="828" y="182"/>
                    </a:lnTo>
                    <a:lnTo>
                      <a:pt x="706" y="228"/>
                    </a:lnTo>
                    <a:lnTo>
                      <a:pt x="592" y="276"/>
                    </a:lnTo>
                    <a:lnTo>
                      <a:pt x="486" y="330"/>
                    </a:lnTo>
                    <a:lnTo>
                      <a:pt x="390" y="386"/>
                    </a:lnTo>
                    <a:lnTo>
                      <a:pt x="302" y="446"/>
                    </a:lnTo>
                    <a:lnTo>
                      <a:pt x="226" y="510"/>
                    </a:lnTo>
                    <a:lnTo>
                      <a:pt x="158" y="576"/>
                    </a:lnTo>
                    <a:lnTo>
                      <a:pt x="102" y="646"/>
                    </a:lnTo>
                    <a:lnTo>
                      <a:pt x="58" y="718"/>
                    </a:lnTo>
                    <a:lnTo>
                      <a:pt x="26" y="790"/>
                    </a:lnTo>
                    <a:lnTo>
                      <a:pt x="6" y="866"/>
                    </a:lnTo>
                    <a:lnTo>
                      <a:pt x="0" y="944"/>
                    </a:lnTo>
                    <a:lnTo>
                      <a:pt x="6" y="1022"/>
                    </a:lnTo>
                    <a:lnTo>
                      <a:pt x="26" y="1098"/>
                    </a:lnTo>
                    <a:lnTo>
                      <a:pt x="58" y="1170"/>
                    </a:lnTo>
                    <a:lnTo>
                      <a:pt x="102" y="1242"/>
                    </a:lnTo>
                    <a:lnTo>
                      <a:pt x="158" y="1312"/>
                    </a:lnTo>
                    <a:lnTo>
                      <a:pt x="226" y="1378"/>
                    </a:lnTo>
                    <a:lnTo>
                      <a:pt x="302" y="1442"/>
                    </a:lnTo>
                    <a:lnTo>
                      <a:pt x="390" y="1502"/>
                    </a:lnTo>
                    <a:lnTo>
                      <a:pt x="486" y="1558"/>
                    </a:lnTo>
                    <a:lnTo>
                      <a:pt x="592" y="1612"/>
                    </a:lnTo>
                    <a:lnTo>
                      <a:pt x="706" y="1660"/>
                    </a:lnTo>
                    <a:lnTo>
                      <a:pt x="828" y="1706"/>
                    </a:lnTo>
                    <a:lnTo>
                      <a:pt x="956" y="1746"/>
                    </a:lnTo>
                    <a:lnTo>
                      <a:pt x="1092" y="1782"/>
                    </a:lnTo>
                    <a:lnTo>
                      <a:pt x="1234" y="1814"/>
                    </a:lnTo>
                    <a:lnTo>
                      <a:pt x="1382" y="1840"/>
                    </a:lnTo>
                    <a:lnTo>
                      <a:pt x="1534" y="1860"/>
                    </a:lnTo>
                    <a:lnTo>
                      <a:pt x="1692" y="1876"/>
                    </a:lnTo>
                    <a:lnTo>
                      <a:pt x="1854" y="1884"/>
                    </a:lnTo>
                    <a:lnTo>
                      <a:pt x="2020" y="1888"/>
                    </a:lnTo>
                    <a:lnTo>
                      <a:pt x="2186" y="1884"/>
                    </a:lnTo>
                    <a:lnTo>
                      <a:pt x="2348" y="1876"/>
                    </a:lnTo>
                    <a:lnTo>
                      <a:pt x="2506" y="1860"/>
                    </a:lnTo>
                    <a:lnTo>
                      <a:pt x="2658" y="1840"/>
                    </a:lnTo>
                    <a:lnTo>
                      <a:pt x="2806" y="1814"/>
                    </a:lnTo>
                    <a:lnTo>
                      <a:pt x="2948" y="1782"/>
                    </a:lnTo>
                    <a:lnTo>
                      <a:pt x="3084" y="1746"/>
                    </a:lnTo>
                    <a:lnTo>
                      <a:pt x="3212" y="1706"/>
                    </a:lnTo>
                    <a:lnTo>
                      <a:pt x="3334" y="1660"/>
                    </a:lnTo>
                    <a:lnTo>
                      <a:pt x="3448" y="1612"/>
                    </a:lnTo>
                    <a:lnTo>
                      <a:pt x="3554" y="1558"/>
                    </a:lnTo>
                    <a:lnTo>
                      <a:pt x="3650" y="1502"/>
                    </a:lnTo>
                    <a:lnTo>
                      <a:pt x="3738" y="1442"/>
                    </a:lnTo>
                    <a:lnTo>
                      <a:pt x="3814" y="1378"/>
                    </a:lnTo>
                    <a:lnTo>
                      <a:pt x="3882" y="1312"/>
                    </a:lnTo>
                    <a:lnTo>
                      <a:pt x="3938" y="1242"/>
                    </a:lnTo>
                    <a:lnTo>
                      <a:pt x="3982" y="1170"/>
                    </a:lnTo>
                    <a:lnTo>
                      <a:pt x="4014" y="1098"/>
                    </a:lnTo>
                    <a:lnTo>
                      <a:pt x="4034" y="1022"/>
                    </a:lnTo>
                    <a:lnTo>
                      <a:pt x="4040" y="944"/>
                    </a:lnTo>
                    <a:lnTo>
                      <a:pt x="4034" y="866"/>
                    </a:lnTo>
                    <a:lnTo>
                      <a:pt x="4014" y="790"/>
                    </a:lnTo>
                    <a:lnTo>
                      <a:pt x="3982" y="718"/>
                    </a:lnTo>
                    <a:lnTo>
                      <a:pt x="3938" y="646"/>
                    </a:lnTo>
                    <a:lnTo>
                      <a:pt x="3882" y="576"/>
                    </a:lnTo>
                    <a:lnTo>
                      <a:pt x="3814" y="510"/>
                    </a:lnTo>
                    <a:lnTo>
                      <a:pt x="3738" y="446"/>
                    </a:lnTo>
                    <a:lnTo>
                      <a:pt x="3650" y="386"/>
                    </a:lnTo>
                    <a:lnTo>
                      <a:pt x="3554" y="330"/>
                    </a:lnTo>
                    <a:lnTo>
                      <a:pt x="3448" y="276"/>
                    </a:lnTo>
                    <a:lnTo>
                      <a:pt x="3334" y="228"/>
                    </a:lnTo>
                    <a:lnTo>
                      <a:pt x="3212" y="182"/>
                    </a:lnTo>
                    <a:lnTo>
                      <a:pt x="3084" y="142"/>
                    </a:lnTo>
                    <a:lnTo>
                      <a:pt x="2948" y="106"/>
                    </a:lnTo>
                    <a:lnTo>
                      <a:pt x="2806" y="74"/>
                    </a:lnTo>
                    <a:lnTo>
                      <a:pt x="2658" y="48"/>
                    </a:lnTo>
                    <a:lnTo>
                      <a:pt x="2506" y="28"/>
                    </a:lnTo>
                    <a:lnTo>
                      <a:pt x="2348" y="12"/>
                    </a:lnTo>
                    <a:lnTo>
                      <a:pt x="2186" y="4"/>
                    </a:lnTo>
                    <a:lnTo>
                      <a:pt x="2020" y="0"/>
                    </a:lnTo>
                    <a:close/>
                    <a:moveTo>
                      <a:pt x="1922" y="1748"/>
                    </a:moveTo>
                    <a:lnTo>
                      <a:pt x="1762" y="1746"/>
                    </a:lnTo>
                    <a:lnTo>
                      <a:pt x="1606" y="1736"/>
                    </a:lnTo>
                    <a:lnTo>
                      <a:pt x="1454" y="1722"/>
                    </a:lnTo>
                    <a:lnTo>
                      <a:pt x="1306" y="1702"/>
                    </a:lnTo>
                    <a:lnTo>
                      <a:pt x="1164" y="1678"/>
                    </a:lnTo>
                    <a:lnTo>
                      <a:pt x="1028" y="1648"/>
                    </a:lnTo>
                    <a:lnTo>
                      <a:pt x="898" y="1614"/>
                    </a:lnTo>
                    <a:lnTo>
                      <a:pt x="776" y="1576"/>
                    </a:lnTo>
                    <a:lnTo>
                      <a:pt x="662" y="1532"/>
                    </a:lnTo>
                    <a:lnTo>
                      <a:pt x="554" y="1486"/>
                    </a:lnTo>
                    <a:lnTo>
                      <a:pt x="458" y="1436"/>
                    </a:lnTo>
                    <a:lnTo>
                      <a:pt x="370" y="1382"/>
                    </a:lnTo>
                    <a:lnTo>
                      <a:pt x="292" y="1326"/>
                    </a:lnTo>
                    <a:lnTo>
                      <a:pt x="224" y="1266"/>
                    </a:lnTo>
                    <a:lnTo>
                      <a:pt x="166" y="1204"/>
                    </a:lnTo>
                    <a:lnTo>
                      <a:pt x="122" y="1140"/>
                    </a:lnTo>
                    <a:lnTo>
                      <a:pt x="88" y="1074"/>
                    </a:lnTo>
                    <a:lnTo>
                      <a:pt x="68" y="1004"/>
                    </a:lnTo>
                    <a:lnTo>
                      <a:pt x="62" y="934"/>
                    </a:lnTo>
                    <a:lnTo>
                      <a:pt x="68" y="864"/>
                    </a:lnTo>
                    <a:lnTo>
                      <a:pt x="88" y="796"/>
                    </a:lnTo>
                    <a:lnTo>
                      <a:pt x="122" y="730"/>
                    </a:lnTo>
                    <a:lnTo>
                      <a:pt x="166" y="664"/>
                    </a:lnTo>
                    <a:lnTo>
                      <a:pt x="224" y="602"/>
                    </a:lnTo>
                    <a:lnTo>
                      <a:pt x="292" y="544"/>
                    </a:lnTo>
                    <a:lnTo>
                      <a:pt x="370" y="486"/>
                    </a:lnTo>
                    <a:lnTo>
                      <a:pt x="458" y="434"/>
                    </a:lnTo>
                    <a:lnTo>
                      <a:pt x="554" y="382"/>
                    </a:lnTo>
                    <a:lnTo>
                      <a:pt x="662" y="336"/>
                    </a:lnTo>
                    <a:lnTo>
                      <a:pt x="776" y="294"/>
                    </a:lnTo>
                    <a:lnTo>
                      <a:pt x="898" y="256"/>
                    </a:lnTo>
                    <a:lnTo>
                      <a:pt x="1028" y="222"/>
                    </a:lnTo>
                    <a:lnTo>
                      <a:pt x="1164" y="192"/>
                    </a:lnTo>
                    <a:lnTo>
                      <a:pt x="1306" y="166"/>
                    </a:lnTo>
                    <a:lnTo>
                      <a:pt x="1454" y="148"/>
                    </a:lnTo>
                    <a:lnTo>
                      <a:pt x="1606" y="132"/>
                    </a:lnTo>
                    <a:lnTo>
                      <a:pt x="1762" y="124"/>
                    </a:lnTo>
                    <a:lnTo>
                      <a:pt x="1922" y="120"/>
                    </a:lnTo>
                    <a:lnTo>
                      <a:pt x="2084" y="124"/>
                    </a:lnTo>
                    <a:lnTo>
                      <a:pt x="2240" y="132"/>
                    </a:lnTo>
                    <a:lnTo>
                      <a:pt x="2392" y="148"/>
                    </a:lnTo>
                    <a:lnTo>
                      <a:pt x="2540" y="166"/>
                    </a:lnTo>
                    <a:lnTo>
                      <a:pt x="2682" y="192"/>
                    </a:lnTo>
                    <a:lnTo>
                      <a:pt x="2818" y="222"/>
                    </a:lnTo>
                    <a:lnTo>
                      <a:pt x="2948" y="256"/>
                    </a:lnTo>
                    <a:lnTo>
                      <a:pt x="3070" y="294"/>
                    </a:lnTo>
                    <a:lnTo>
                      <a:pt x="3184" y="336"/>
                    </a:lnTo>
                    <a:lnTo>
                      <a:pt x="3292" y="382"/>
                    </a:lnTo>
                    <a:lnTo>
                      <a:pt x="3388" y="434"/>
                    </a:lnTo>
                    <a:lnTo>
                      <a:pt x="3476" y="486"/>
                    </a:lnTo>
                    <a:lnTo>
                      <a:pt x="3554" y="544"/>
                    </a:lnTo>
                    <a:lnTo>
                      <a:pt x="3622" y="602"/>
                    </a:lnTo>
                    <a:lnTo>
                      <a:pt x="3680" y="664"/>
                    </a:lnTo>
                    <a:lnTo>
                      <a:pt x="3724" y="730"/>
                    </a:lnTo>
                    <a:lnTo>
                      <a:pt x="3758" y="796"/>
                    </a:lnTo>
                    <a:lnTo>
                      <a:pt x="3778" y="864"/>
                    </a:lnTo>
                    <a:lnTo>
                      <a:pt x="3784" y="934"/>
                    </a:lnTo>
                    <a:lnTo>
                      <a:pt x="3778" y="1004"/>
                    </a:lnTo>
                    <a:lnTo>
                      <a:pt x="3758" y="1074"/>
                    </a:lnTo>
                    <a:lnTo>
                      <a:pt x="3724" y="1140"/>
                    </a:lnTo>
                    <a:lnTo>
                      <a:pt x="3680" y="1204"/>
                    </a:lnTo>
                    <a:lnTo>
                      <a:pt x="3622" y="1266"/>
                    </a:lnTo>
                    <a:lnTo>
                      <a:pt x="3554" y="1326"/>
                    </a:lnTo>
                    <a:lnTo>
                      <a:pt x="3476" y="1382"/>
                    </a:lnTo>
                    <a:lnTo>
                      <a:pt x="3388" y="1436"/>
                    </a:lnTo>
                    <a:lnTo>
                      <a:pt x="3292" y="1486"/>
                    </a:lnTo>
                    <a:lnTo>
                      <a:pt x="3184" y="1532"/>
                    </a:lnTo>
                    <a:lnTo>
                      <a:pt x="3070" y="1576"/>
                    </a:lnTo>
                    <a:lnTo>
                      <a:pt x="2948" y="1614"/>
                    </a:lnTo>
                    <a:lnTo>
                      <a:pt x="2818" y="1648"/>
                    </a:lnTo>
                    <a:lnTo>
                      <a:pt x="2682" y="1678"/>
                    </a:lnTo>
                    <a:lnTo>
                      <a:pt x="2540" y="1702"/>
                    </a:lnTo>
                    <a:lnTo>
                      <a:pt x="2392" y="1722"/>
                    </a:lnTo>
                    <a:lnTo>
                      <a:pt x="2240" y="1736"/>
                    </a:lnTo>
                    <a:lnTo>
                      <a:pt x="2084" y="1746"/>
                    </a:lnTo>
                    <a:lnTo>
                      <a:pt x="1922" y="1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d9d9">
                      <a:alpha val="36078"/>
                    </a:srgbClr>
                  </a:gs>
                  <a:gs pos="100000">
                    <a:srgbClr val="808080"/>
                  </a:gs>
                </a:gsLst>
                <a:lin ang="135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6" name="Oval 6"/>
              <p:cNvSpPr/>
              <p:nvPr/>
            </p:nvSpPr>
            <p:spPr>
              <a:xfrm rot="20056200">
                <a:off x="3200040" y="2437920"/>
                <a:ext cx="1079640" cy="43200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84a5ca"/>
                  </a:gs>
                </a:gsLst>
                <a:lin ang="1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7" name="Oval 7"/>
              <p:cNvSpPr/>
              <p:nvPr/>
            </p:nvSpPr>
            <p:spPr>
              <a:xfrm rot="20056200">
                <a:off x="5867280" y="4590720"/>
                <a:ext cx="1079640" cy="43164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84a5ca"/>
                  </a:gs>
                </a:gsLst>
                <a:lin ang="1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8" name="Oval 9"/>
              <p:cNvSpPr/>
              <p:nvPr/>
            </p:nvSpPr>
            <p:spPr>
              <a:xfrm rot="20398800">
                <a:off x="3123720" y="5438880"/>
                <a:ext cx="1258920" cy="53964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84a5ca"/>
                  </a:gs>
                </a:gsLst>
                <a:lin ang="1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9" name="Oval 10"/>
              <p:cNvSpPr/>
              <p:nvPr/>
            </p:nvSpPr>
            <p:spPr>
              <a:xfrm rot="20056200">
                <a:off x="1334880" y="3882600"/>
                <a:ext cx="1079280" cy="43200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84a5ca"/>
                  </a:gs>
                </a:gsLst>
                <a:lin ang="1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0" name="Oval 11"/>
              <p:cNvSpPr/>
              <p:nvPr/>
            </p:nvSpPr>
            <p:spPr>
              <a:xfrm>
                <a:off x="2209680" y="1712880"/>
                <a:ext cx="1440000" cy="144000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353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1" name="Oval 12"/>
              <p:cNvSpPr/>
              <p:nvPr/>
            </p:nvSpPr>
            <p:spPr>
              <a:xfrm>
                <a:off x="533520" y="307656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b464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2" name="Oval 14"/>
              <p:cNvSpPr/>
              <p:nvPr/>
            </p:nvSpPr>
            <p:spPr>
              <a:xfrm>
                <a:off x="2227320" y="4562640"/>
                <a:ext cx="1619280" cy="139680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e2e2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3" name="Oval 15"/>
              <p:cNvSpPr/>
              <p:nvPr/>
            </p:nvSpPr>
            <p:spPr>
              <a:xfrm>
                <a:off x="4770360" y="3648240"/>
                <a:ext cx="1674720" cy="1677960"/>
              </a:xfrm>
              <a:prstGeom prst="ellipse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2335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4" name="Text Box 16"/>
              <p:cNvSpPr/>
              <p:nvPr/>
            </p:nvSpPr>
            <p:spPr>
              <a:xfrm>
                <a:off x="345960" y="3492360"/>
                <a:ext cx="17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隶书"/>
                    <a:ea typeface="隶书"/>
                  </a:rPr>
                  <a:t>收集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5" name="Text Box 17"/>
              <p:cNvSpPr/>
              <p:nvPr/>
            </p:nvSpPr>
            <p:spPr>
              <a:xfrm>
                <a:off x="2201760" y="201780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隶书"/>
                    <a:ea typeface="隶书"/>
                  </a:rPr>
                  <a:t>分类、 组卷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6" name="Text Box 18"/>
              <p:cNvSpPr/>
              <p:nvPr/>
            </p:nvSpPr>
            <p:spPr>
              <a:xfrm>
                <a:off x="4952880" y="3824280"/>
                <a:ext cx="1219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隶书"/>
                    <a:ea typeface="隶书"/>
                  </a:rPr>
                  <a:t>填写案卷封面和移交单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7" name="Text Box 19"/>
              <p:cNvSpPr/>
              <p:nvPr/>
            </p:nvSpPr>
            <p:spPr>
              <a:xfrm>
                <a:off x="1981080" y="4753080"/>
                <a:ext cx="1905120" cy="39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8" name="Oval 27"/>
              <p:cNvSpPr/>
              <p:nvPr/>
            </p:nvSpPr>
            <p:spPr>
              <a:xfrm>
                <a:off x="6400800" y="2362320"/>
                <a:ext cx="1828800" cy="159228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e2e2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隶书"/>
                    <a:ea typeface="隶书"/>
                  </a:rPr>
                  <a:t>填写卷内目录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隶书"/>
                    <a:ea typeface="隶书"/>
                  </a:rPr>
                  <a:t>和备考表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9" name="Oval 29"/>
              <p:cNvSpPr/>
              <p:nvPr/>
            </p:nvSpPr>
            <p:spPr>
              <a:xfrm rot="20056200">
                <a:off x="6226200" y="1447560"/>
                <a:ext cx="1258920" cy="53964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84a5ca"/>
                  </a:gs>
                </a:gsLst>
                <a:lin ang="1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0" name="Oval 25"/>
              <p:cNvSpPr/>
              <p:nvPr/>
            </p:nvSpPr>
            <p:spPr>
              <a:xfrm>
                <a:off x="5330880" y="762120"/>
                <a:ext cx="1576440" cy="1371600"/>
              </a:xfrm>
              <a:prstGeom prst="ellipse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0035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1" name="Text Box 26"/>
              <p:cNvSpPr/>
              <p:nvPr/>
            </p:nvSpPr>
            <p:spPr>
              <a:xfrm>
                <a:off x="5459400" y="103176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隶书"/>
                    <a:ea typeface="隶书"/>
                  </a:rPr>
                  <a:t>排序、 编号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2" name="Rectangle 30"/>
              <p:cNvSpPr/>
              <p:nvPr/>
            </p:nvSpPr>
            <p:spPr>
              <a:xfrm>
                <a:off x="64440" y="3352680"/>
                <a:ext cx="43524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endParaRPr b="1" lang="en-US" sz="35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3" name="Rectangle 31"/>
              <p:cNvSpPr/>
              <p:nvPr/>
            </p:nvSpPr>
            <p:spPr>
              <a:xfrm>
                <a:off x="1791360" y="2117880"/>
                <a:ext cx="43524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endParaRPr b="1" lang="en-US" sz="35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4" name="Rectangle 32"/>
              <p:cNvSpPr/>
              <p:nvPr/>
            </p:nvSpPr>
            <p:spPr>
              <a:xfrm>
                <a:off x="5026680" y="1905120"/>
                <a:ext cx="43524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3</a:t>
                </a:r>
                <a:endParaRPr b="1" lang="en-US" sz="35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5" name="Rectangle 33"/>
              <p:cNvSpPr/>
              <p:nvPr/>
            </p:nvSpPr>
            <p:spPr>
              <a:xfrm>
                <a:off x="6008040" y="2832120"/>
                <a:ext cx="43524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4</a:t>
                </a:r>
                <a:endParaRPr b="1" lang="en-US" sz="35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6" name="Rectangle 34"/>
              <p:cNvSpPr/>
              <p:nvPr/>
            </p:nvSpPr>
            <p:spPr>
              <a:xfrm>
                <a:off x="4483800" y="3975120"/>
                <a:ext cx="43524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5</a:t>
                </a:r>
                <a:endParaRPr b="1" lang="en-US" sz="35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7" name="Rectangle 35"/>
              <p:cNvSpPr/>
              <p:nvPr/>
            </p:nvSpPr>
            <p:spPr>
              <a:xfrm>
                <a:off x="1562760" y="4981680"/>
                <a:ext cx="43524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6</a:t>
                </a:r>
                <a:endParaRPr b="1" lang="en-US" sz="35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8" name="Line 37"/>
              <p:cNvSpPr/>
              <p:nvPr/>
            </p:nvSpPr>
            <p:spPr>
              <a:xfrm>
                <a:off x="1828800" y="1628640"/>
                <a:ext cx="175248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9" name="Oval 38"/>
              <p:cNvSpPr/>
              <p:nvPr/>
            </p:nvSpPr>
            <p:spPr>
              <a:xfrm rot="20056200">
                <a:off x="2971440" y="3152520"/>
                <a:ext cx="2987640" cy="53964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84a5ca"/>
                  </a:gs>
                </a:gsLst>
                <a:lin ang="1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80" name="Line 36"/>
              <p:cNvSpPr/>
              <p:nvPr/>
            </p:nvSpPr>
            <p:spPr>
              <a:xfrm flipH="1" flipV="1">
                <a:off x="3580920" y="1628640"/>
                <a:ext cx="1219320" cy="18288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81" name="WordArt 40"/>
              <p:cNvSpPr txBox="1"/>
              <p:nvPr/>
            </p:nvSpPr>
            <p:spPr>
              <a:xfrm>
                <a:off x="1619280" y="1114560"/>
                <a:ext cx="3486240" cy="409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1" strike="noStrike">
                    <a:ln w="12600">
                      <a:solidFill>
                        <a:srgbClr val="eaeaea"/>
                      </a:solidFill>
                      <a:miter/>
                    </a:ln>
                    <a:solidFill>
                      <a:srgbClr val="0f0e10"/>
                    </a:solidFill>
                    <a:latin typeface="隶书"/>
                  </a:rPr>
                  <a:t>案卷归档流程</a:t>
                </a:r>
                <a:endParaRPr b="1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f0e10"/>
                  </a:solidFill>
                  <a:latin typeface="隶书"/>
                  <a:ea typeface="隶书"/>
                </a:endParaRPr>
              </a:p>
            </p:txBody>
          </p:sp>
        </p:grpSp>
        <p:sp>
          <p:nvSpPr>
            <p:cNvPr id="82" name="Text Box 18"/>
            <p:cNvSpPr/>
            <p:nvPr/>
          </p:nvSpPr>
          <p:spPr>
            <a:xfrm>
              <a:off x="2430360" y="48070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装订、上架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0L(C{25JKCO%F6PGDW45ZY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51920" y="2438280"/>
            <a:ext cx="4343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谢  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建大档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QQ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群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242028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3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7" dur="2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304920" y="1600200"/>
            <a:ext cx="853416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依据归档范围，检查文件是否收集齐全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核对文件的正件与附件、请示与批复等成套材料，以及文件形成日期、印章等是否完整、准备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检查文件有无破损、字迹模糊，发现问题，及时处理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剔除无需归档的：重份文件、事务性通知、历次修改稿等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133720" y="609480"/>
            <a:ext cx="4800600" cy="8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收集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133360" y="517680"/>
            <a:ext cx="563868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需归档文件（可自留）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914400" y="3797280"/>
            <a:ext cx="7010280" cy="2146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66680" y="4641480"/>
            <a:ext cx="67820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本机关文件材料中的重份文件，无查考利用价值的事务性、临时性文件，一般性文件的历次修改稿、各次校对稿，无特殊保存价值的信封，不需办理不需办理的一般性人民来信、电话记录，机关内部互相抄送的文件材料； 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1295280" y="3429000"/>
            <a:ext cx="6400800" cy="0"/>
          </a:xfrm>
          <a:prstGeom prst="line">
            <a:avLst/>
          </a:prstGeom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320400" y="3279960"/>
            <a:ext cx="1225080" cy="779040"/>
          </a:xfrm>
          <a:prstGeom prst="ellipse">
            <a:avLst/>
          </a:prstGeom>
          <a:gradFill rotWithShape="0">
            <a:gsLst>
              <a:gs pos="0">
                <a:srgbClr val="d0ccd2"/>
              </a:gs>
              <a:gs pos="100000">
                <a:srgbClr val="99663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(2)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981080" y="1405080"/>
            <a:ext cx="6712200" cy="1795320"/>
            <a:chOff x="1981080" y="1405080"/>
            <a:chExt cx="6712200" cy="1795320"/>
          </a:xfrm>
        </p:grpSpPr>
        <p:sp>
          <p:nvSpPr>
            <p:cNvPr id="91" name="Line 9"/>
            <p:cNvSpPr/>
            <p:nvPr/>
          </p:nvSpPr>
          <p:spPr>
            <a:xfrm>
              <a:off x="1981080" y="3200400"/>
              <a:ext cx="6400800" cy="0"/>
            </a:xfrm>
            <a:prstGeom prst="line">
              <a:avLst/>
            </a:prstGeom>
            <a:ln w="38160">
              <a:solidFill>
                <a:srgbClr val="66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2" name="AutoShape 16"/>
            <p:cNvSpPr/>
            <p:nvPr/>
          </p:nvSpPr>
          <p:spPr>
            <a:xfrm>
              <a:off x="2395440" y="1405080"/>
              <a:ext cx="6297840" cy="1439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3" name="Rectangle 21"/>
            <p:cNvSpPr/>
            <p:nvPr/>
          </p:nvSpPr>
          <p:spPr>
            <a:xfrm>
              <a:off x="4049280" y="1447920"/>
              <a:ext cx="336600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上级机关的文件材料中，普发性不需本机关</a:t>
              </a:r>
              <a:br>
                <a:rPr sz="2200"/>
              </a:br>
              <a:r>
                <a:rPr b="0" lang="zh-CN" sz="2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办理的文件材料，任免、奖惩非本机关工作人员</a:t>
              </a:r>
              <a:br>
                <a:rPr sz="2200"/>
              </a:br>
              <a:r>
                <a:rPr b="0" lang="zh-CN" sz="2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的文件材料，供工作参考的抄件等；</a:t>
              </a:r>
              <a:endParaRPr b="1" lang="en-US" sz="2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4" name="Oval 18"/>
            <p:cNvSpPr/>
            <p:nvPr/>
          </p:nvSpPr>
          <p:spPr>
            <a:xfrm>
              <a:off x="1981080" y="1828800"/>
              <a:ext cx="719280" cy="719280"/>
            </a:xfrm>
            <a:prstGeom prst="ellipse">
              <a:avLst/>
            </a:prstGeom>
            <a:gradFill rotWithShape="0">
              <a:gsLst>
                <a:gs pos="0">
                  <a:srgbClr val="d0ccd2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5" name="Rectangle 17"/>
            <p:cNvSpPr/>
            <p:nvPr/>
          </p:nvSpPr>
          <p:spPr>
            <a:xfrm>
              <a:off x="2007720" y="188928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(1)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7"/>
          <p:cNvSpPr/>
          <p:nvPr/>
        </p:nvSpPr>
        <p:spPr>
          <a:xfrm>
            <a:off x="2209680" y="3276720"/>
            <a:ext cx="6400800" cy="0"/>
          </a:xfrm>
          <a:prstGeom prst="line">
            <a:avLst/>
          </a:prstGeom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11280" y="4126680"/>
            <a:ext cx="62467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2395440" y="1405080"/>
            <a:ext cx="6096240" cy="13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705840" y="1540080"/>
            <a:ext cx="3030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同级机关文件材料中，不需贯彻执行的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文件材料，不需办理的抄送文件材料；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1981080" y="1717560"/>
            <a:ext cx="719280" cy="719280"/>
          </a:xfrm>
          <a:prstGeom prst="ellipse">
            <a:avLst/>
          </a:prstGeom>
          <a:gradFill rotWithShape="0">
            <a:gsLst>
              <a:gs pos="0">
                <a:srgbClr val="d0ccd2"/>
              </a:gs>
              <a:gs pos="100000">
                <a:srgbClr val="99663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2007720" y="17524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(3)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533520" y="3478320"/>
            <a:ext cx="6510240" cy="1697040"/>
            <a:chOff x="533520" y="3478320"/>
            <a:chExt cx="6510240" cy="1697040"/>
          </a:xfrm>
        </p:grpSpPr>
        <p:sp>
          <p:nvSpPr>
            <p:cNvPr id="103" name="Line 8"/>
            <p:cNvSpPr/>
            <p:nvPr/>
          </p:nvSpPr>
          <p:spPr>
            <a:xfrm>
              <a:off x="533520" y="3478320"/>
              <a:ext cx="6400800" cy="0"/>
            </a:xfrm>
            <a:prstGeom prst="line">
              <a:avLst/>
            </a:prstGeom>
            <a:ln w="38160">
              <a:solidFill>
                <a:srgbClr val="66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04" name="Group 15"/>
            <p:cNvGrpSpPr/>
            <p:nvPr/>
          </p:nvGrpSpPr>
          <p:grpSpPr>
            <a:xfrm>
              <a:off x="533520" y="3843360"/>
              <a:ext cx="6510240" cy="1332000"/>
              <a:chOff x="533520" y="3843360"/>
              <a:chExt cx="6510240" cy="1332000"/>
            </a:xfrm>
          </p:grpSpPr>
          <p:sp>
            <p:nvSpPr>
              <p:cNvPr id="105" name="AutoShape 16"/>
              <p:cNvSpPr/>
              <p:nvPr/>
            </p:nvSpPr>
            <p:spPr>
              <a:xfrm>
                <a:off x="947880" y="3843360"/>
                <a:ext cx="6095880" cy="13320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6" name="Rectangle 17"/>
              <p:cNvSpPr/>
              <p:nvPr/>
            </p:nvSpPr>
            <p:spPr>
              <a:xfrm>
                <a:off x="2314800" y="3976920"/>
                <a:ext cx="3198240" cy="89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下级机关的文件材料中，供参阅的简报、</a:t>
                </a:r>
                <a:br>
                  <a:rPr sz="2200"/>
                </a:br>
                <a:r>
                  <a:rPr b="0" lang="zh-CN" sz="2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情况反映，抄报或越级抄报的文件材料。</a:t>
                </a:r>
                <a:endParaRPr b="1" lang="en-US" sz="2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7" name="Oval 18"/>
              <p:cNvSpPr/>
              <p:nvPr/>
            </p:nvSpPr>
            <p:spPr>
              <a:xfrm>
                <a:off x="533520" y="4156200"/>
                <a:ext cx="718920" cy="718920"/>
              </a:xfrm>
              <a:prstGeom prst="ellipse">
                <a:avLst/>
              </a:prstGeom>
              <a:gradFill rotWithShape="0">
                <a:gsLst>
                  <a:gs pos="0">
                    <a:srgbClr val="d0ccd2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559800" y="4189320"/>
                <a:ext cx="866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楷体_GB2312"/>
                  </a:rPr>
                  <a:t>(4)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819520" y="2209680"/>
            <a:ext cx="5486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按年度：按形成或针对的年度分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按机构：按发文机关或承办部门分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按问题：按其内容涉及的不同问题分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按期限：按不同保管期限（永久、长期、短期）分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1295280" y="838080"/>
            <a:ext cx="1752480" cy="5410440"/>
            <a:chOff x="1295280" y="838080"/>
            <a:chExt cx="1752480" cy="5410440"/>
          </a:xfrm>
        </p:grpSpPr>
        <p:sp>
          <p:nvSpPr>
            <p:cNvPr id="111" name="AutoShape 6"/>
            <p:cNvSpPr/>
            <p:nvPr/>
          </p:nvSpPr>
          <p:spPr>
            <a:xfrm>
              <a:off x="1295280" y="1371600"/>
              <a:ext cx="1523880" cy="464832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1523880" y="838080"/>
              <a:ext cx="1523880" cy="54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2.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选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择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分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类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方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法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5120" y="266760"/>
            <a:ext cx="632448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多个时间特征的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1760" y="2991960"/>
            <a:ext cx="1712880" cy="29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跨年度的规划、计划归入文件内容针对的第一个年度；</a:t>
            </a:r>
            <a:r>
              <a:rPr b="0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如：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2005</a:t>
            </a:r>
            <a:r>
              <a:rPr b="0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年形成的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2006—2010</a:t>
            </a:r>
            <a:r>
              <a:rPr b="0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年工作规划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应归入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2006</a:t>
            </a:r>
            <a:r>
              <a:rPr b="0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年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2"/>
          <p:cNvGrpSpPr/>
          <p:nvPr/>
        </p:nvGrpSpPr>
        <p:grpSpPr>
          <a:xfrm>
            <a:off x="2430360" y="1706400"/>
            <a:ext cx="1676520" cy="4050000"/>
            <a:chOff x="2430360" y="1706400"/>
            <a:chExt cx="1676520" cy="4050000"/>
          </a:xfrm>
        </p:grpSpPr>
        <p:sp>
          <p:nvSpPr>
            <p:cNvPr id="116" name="Rectangle 14"/>
            <p:cNvSpPr/>
            <p:nvPr/>
          </p:nvSpPr>
          <p:spPr>
            <a:xfrm>
              <a:off x="2468160" y="2395440"/>
              <a:ext cx="1562400" cy="32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跨年度的总结、报告，归入文件内容针对的最后一个年度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如：</a:t>
              </a:r>
              <a:r>
                <a:rPr b="0" lang="en-US" sz="2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2007</a:t>
              </a:r>
              <a:r>
                <a:rPr b="0" lang="zh-CN" sz="2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年形成的</a:t>
              </a:r>
              <a:r>
                <a:rPr b="0" lang="en-US" sz="2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《</a:t>
              </a:r>
              <a:r>
                <a:rPr b="0" lang="en-US" sz="2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2006</a:t>
              </a:r>
              <a:r>
                <a:rPr b="0" lang="zh-CN" sz="2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年工作总结</a:t>
              </a:r>
              <a:r>
                <a:rPr b="0" lang="en-US" sz="2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》</a:t>
              </a:r>
              <a:r>
                <a:rPr b="0" lang="zh-CN" sz="2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应归入</a:t>
              </a:r>
              <a:r>
                <a:rPr b="0" lang="en-US" sz="2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2006</a:t>
              </a:r>
              <a:r>
                <a:rPr b="0" lang="zh-CN" sz="2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年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17" name="组合 1"/>
            <p:cNvGrpSpPr/>
            <p:nvPr/>
          </p:nvGrpSpPr>
          <p:grpSpPr>
            <a:xfrm>
              <a:off x="2430360" y="1706400"/>
              <a:ext cx="1676520" cy="4050000"/>
              <a:chOff x="2430360" y="1706400"/>
              <a:chExt cx="1676520" cy="4050000"/>
            </a:xfrm>
          </p:grpSpPr>
          <p:sp>
            <p:nvSpPr>
              <p:cNvPr id="118" name="AutoShape 12"/>
              <p:cNvSpPr/>
              <p:nvPr/>
            </p:nvSpPr>
            <p:spPr>
              <a:xfrm>
                <a:off x="2430360" y="2041200"/>
                <a:ext cx="1676520" cy="3715200"/>
              </a:xfrm>
              <a:custGeom>
                <a:avLst/>
                <a:gdLst>
                  <a:gd name="textAreaLeft" fmla="*/ 81720 w 1676520"/>
                  <a:gd name="textAreaRight" fmla="*/ 1594800 w 1676520"/>
                  <a:gd name="textAreaTop" fmla="*/ 81720 h 3715200"/>
                  <a:gd name="textAreaBottom" fmla="*/ 3633480 h 3715200"/>
                </a:gdLst>
                <a:ahLst/>
                <a:rect l="textAreaLeft" t="textAreaTop" r="textAreaRight" b="textAreaBottom"/>
                <a:pathLst>
                  <a:path w="21600" h="47860">
                    <a:moveTo>
                      <a:pt x="3600" y="0"/>
                    </a:moveTo>
                    <a:arcTo wR="3600" hR="3600" stAng="16200000" swAng="-5400000"/>
                    <a:lnTo>
                      <a:pt x="0" y="44260"/>
                    </a:lnTo>
                    <a:arcTo wR="3600" hR="3600" stAng="10800000" swAng="-5400000"/>
                    <a:lnTo>
                      <a:pt x="18000" y="4786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9" name="Oval 10"/>
              <p:cNvSpPr/>
              <p:nvPr/>
            </p:nvSpPr>
            <p:spPr>
              <a:xfrm>
                <a:off x="2734920" y="1706400"/>
                <a:ext cx="1067040" cy="669960"/>
              </a:xfrm>
              <a:prstGeom prst="ellipse">
                <a:avLst/>
              </a:prstGeom>
              <a:gradFill rotWithShape="0">
                <a:gsLst>
                  <a:gs pos="0">
                    <a:srgbClr val="ff6699"/>
                  </a:gs>
                  <a:gs pos="100000">
                    <a:srgbClr val="8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20" name="组合 1"/>
          <p:cNvGrpSpPr/>
          <p:nvPr/>
        </p:nvGrpSpPr>
        <p:grpSpPr>
          <a:xfrm>
            <a:off x="6553080" y="1198440"/>
            <a:ext cx="2057400" cy="3983040"/>
            <a:chOff x="6553080" y="1198440"/>
            <a:chExt cx="2057400" cy="3983040"/>
          </a:xfrm>
        </p:grpSpPr>
        <p:sp>
          <p:nvSpPr>
            <p:cNvPr id="121" name="AutoShape 17"/>
            <p:cNvSpPr/>
            <p:nvPr/>
          </p:nvSpPr>
          <p:spPr>
            <a:xfrm>
              <a:off x="6553080" y="1599840"/>
              <a:ext cx="2057400" cy="3581640"/>
            </a:xfrm>
            <a:custGeom>
              <a:avLst/>
              <a:gdLst>
                <a:gd name="textAreaLeft" fmla="*/ 100440 w 2057400"/>
                <a:gd name="textAreaRight" fmla="*/ 1956960 w 2057400"/>
                <a:gd name="textAreaTop" fmla="*/ 100440 h 3581640"/>
                <a:gd name="textAreaBottom" fmla="*/ 3481200 h 3581640"/>
              </a:gdLst>
              <a:ahLst/>
              <a:rect l="textAreaLeft" t="textAreaTop" r="textAreaRight" b="textAreaBottom"/>
              <a:pathLst>
                <a:path w="21600" h="37600">
                  <a:moveTo>
                    <a:pt x="3600" y="0"/>
                  </a:moveTo>
                  <a:arcTo wR="3600" hR="3600" stAng="16200000" swAng="-5400000"/>
                  <a:lnTo>
                    <a:pt x="0" y="34000"/>
                  </a:lnTo>
                  <a:arcTo wR="3600" hR="3600" stAng="10800000" swAng="-5400000"/>
                  <a:lnTo>
                    <a:pt x="18000" y="376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6705360" y="1198440"/>
              <a:ext cx="1676520" cy="671400"/>
            </a:xfrm>
            <a:prstGeom prst="ellipse">
              <a:avLst/>
            </a:prstGeom>
            <a:gradFill rotWithShape="0">
              <a:gsLst>
                <a:gs pos="0">
                  <a:srgbClr val="00b05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3" name="Rectangle 18"/>
          <p:cNvSpPr/>
          <p:nvPr/>
        </p:nvSpPr>
        <p:spPr>
          <a:xfrm>
            <a:off x="6705720" y="1924200"/>
            <a:ext cx="19810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跨年度的会议文件归入会议开幕年；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跨年度的教学、科研、基建、审计等成套性材料，归入结束年。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306360" y="2641680"/>
            <a:ext cx="1903320" cy="3530520"/>
          </a:xfrm>
          <a:custGeom>
            <a:avLst/>
            <a:gdLst>
              <a:gd name="textAreaLeft" fmla="*/ 92880 w 1903320"/>
              <a:gd name="textAreaRight" fmla="*/ 1810440 w 1903320"/>
              <a:gd name="textAreaTop" fmla="*/ 92880 h 3530520"/>
              <a:gd name="textAreaBottom" fmla="*/ 3437640 h 3530520"/>
            </a:gdLst>
            <a:ahLst/>
            <a:rect l="textAreaLeft" t="textAreaTop" r="textAreaRight" b="textAreaBottom"/>
            <a:pathLst>
              <a:path w="21600" h="40063">
                <a:moveTo>
                  <a:pt x="3600" y="0"/>
                </a:moveTo>
                <a:arcTo wR="3600" hR="3600" stAng="16200000" swAng="-5400000"/>
                <a:lnTo>
                  <a:pt x="0" y="36463"/>
                </a:lnTo>
                <a:arcTo wR="3600" hR="3600" stAng="10800000" swAng="-5400000"/>
                <a:lnTo>
                  <a:pt x="18000" y="400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542880" y="2297160"/>
            <a:ext cx="1308240" cy="695160"/>
          </a:xfrm>
          <a:prstGeom prst="ellipse">
            <a:avLst/>
          </a:prstGeom>
          <a:gradFill rotWithShape="0">
            <a:gsLst>
              <a:gs pos="0">
                <a:srgbClr val="92d050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781200" y="2395440"/>
            <a:ext cx="142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7" name="组合 2"/>
          <p:cNvGrpSpPr/>
          <p:nvPr/>
        </p:nvGrpSpPr>
        <p:grpSpPr>
          <a:xfrm>
            <a:off x="4343400" y="1297080"/>
            <a:ext cx="1981080" cy="4179960"/>
            <a:chOff x="4343400" y="1297080"/>
            <a:chExt cx="1981080" cy="4179960"/>
          </a:xfrm>
        </p:grpSpPr>
        <p:sp>
          <p:nvSpPr>
            <p:cNvPr id="128" name="AutoShape 12"/>
            <p:cNvSpPr/>
            <p:nvPr/>
          </p:nvSpPr>
          <p:spPr>
            <a:xfrm>
              <a:off x="4343400" y="1761840"/>
              <a:ext cx="1981080" cy="371520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3715200"/>
                <a:gd name="textAreaBottom" fmla="*/ 3618720 h 3715200"/>
              </a:gdLst>
              <a:ahLst/>
              <a:rect l="textAreaLeft" t="textAreaTop" r="textAreaRight" b="textAreaBottom"/>
              <a:pathLst>
                <a:path w="21600" h="40504">
                  <a:moveTo>
                    <a:pt x="3600" y="0"/>
                  </a:moveTo>
                  <a:arcTo wR="3600" hR="3600" stAng="16200000" swAng="-5400000"/>
                  <a:lnTo>
                    <a:pt x="0" y="36904"/>
                  </a:lnTo>
                  <a:arcTo wR="3600" hR="3600" stAng="10800000" swAng="-5400000"/>
                  <a:lnTo>
                    <a:pt x="18000" y="405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9" name="Oval 10"/>
            <p:cNvSpPr/>
            <p:nvPr/>
          </p:nvSpPr>
          <p:spPr>
            <a:xfrm>
              <a:off x="4689720" y="1297080"/>
              <a:ext cx="1260720" cy="6699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0" name="Rectangle 14"/>
          <p:cNvSpPr/>
          <p:nvPr/>
        </p:nvSpPr>
        <p:spPr>
          <a:xfrm>
            <a:off x="4405320" y="2070000"/>
            <a:ext cx="176688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跨年度的请示、批复，归入文件办结年度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如：下级单位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2007</a:t>
            </a:r>
            <a:r>
              <a:rPr b="0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年写的请示，上级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2008</a:t>
            </a:r>
            <a:r>
              <a:rPr b="0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年批示，则该请示应连同办理文件一起归入</a:t>
            </a:r>
            <a:r>
              <a:rPr b="0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2008</a:t>
            </a:r>
            <a:r>
              <a:rPr b="0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年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日期不准确的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23600"/>
            <a:ext cx="822960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需要分析文件内容、制成材料、格式、字体以及各种标识，通过对照等手段来考证和推断文件的准确日期或近似日期，并据以按年度合理归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"/>
          <p:cNvGrpSpPr/>
          <p:nvPr/>
        </p:nvGrpSpPr>
        <p:grpSpPr>
          <a:xfrm>
            <a:off x="990720" y="2292480"/>
            <a:ext cx="7543800" cy="1746000"/>
            <a:chOff x="990720" y="2292480"/>
            <a:chExt cx="7543800" cy="1746000"/>
          </a:xfrm>
        </p:grpSpPr>
        <p:sp>
          <p:nvSpPr>
            <p:cNvPr id="134" name="Line 6"/>
            <p:cNvSpPr/>
            <p:nvPr/>
          </p:nvSpPr>
          <p:spPr>
            <a:xfrm>
              <a:off x="1676520" y="2362320"/>
              <a:ext cx="6858000" cy="0"/>
            </a:xfrm>
            <a:prstGeom prst="line">
              <a:avLst/>
            </a:prstGeom>
            <a:ln cap="rnd" w="507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5" name="Line 7"/>
            <p:cNvSpPr/>
            <p:nvPr/>
          </p:nvSpPr>
          <p:spPr>
            <a:xfrm>
              <a:off x="990720" y="2855880"/>
              <a:ext cx="7543800" cy="0"/>
            </a:xfrm>
            <a:prstGeom prst="line">
              <a:avLst/>
            </a:prstGeom>
            <a:ln cap="rnd" w="507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990720" y="3429000"/>
              <a:ext cx="7543800" cy="0"/>
            </a:xfrm>
            <a:prstGeom prst="line">
              <a:avLst/>
            </a:prstGeom>
            <a:ln cap="rnd" w="507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990720" y="4038480"/>
              <a:ext cx="4572000" cy="0"/>
            </a:xfrm>
            <a:prstGeom prst="line">
              <a:avLst/>
            </a:prstGeom>
            <a:ln cap="rnd" w="507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1188000" y="2292480"/>
              <a:ext cx="40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▲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533520" y="565200"/>
            <a:ext cx="82296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专门年度的文件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0880" y="182880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学校以学年为单位进行工作，形成的文件应按教学年度（学期）分类，其他文件仍按自然年度分类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990720" y="3930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综合管理时可将这两种年度的文件有规律地组织起来，依次划分年度类别，如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2008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年与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2008—2009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学年归入同一类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2" name="组合 2"/>
          <p:cNvGrpSpPr/>
          <p:nvPr/>
        </p:nvGrpSpPr>
        <p:grpSpPr>
          <a:xfrm>
            <a:off x="732960" y="3164400"/>
            <a:ext cx="7877520" cy="1007280"/>
            <a:chOff x="732960" y="3164400"/>
            <a:chExt cx="7877520" cy="1007280"/>
          </a:xfrm>
        </p:grpSpPr>
        <p:grpSp>
          <p:nvGrpSpPr>
            <p:cNvPr id="143" name="Group 15"/>
            <p:cNvGrpSpPr/>
            <p:nvPr/>
          </p:nvGrpSpPr>
          <p:grpSpPr>
            <a:xfrm>
              <a:off x="732960" y="3164400"/>
              <a:ext cx="1208880" cy="1007280"/>
              <a:chOff x="732960" y="3164400"/>
              <a:chExt cx="1208880" cy="1007280"/>
            </a:xfrm>
          </p:grpSpPr>
          <p:sp>
            <p:nvSpPr>
              <p:cNvPr id="144" name="AutoShape 11"/>
              <p:cNvSpPr/>
              <p:nvPr/>
            </p:nvSpPr>
            <p:spPr>
              <a:xfrm rot="222000">
                <a:off x="761760" y="3200400"/>
                <a:ext cx="1150920" cy="934920"/>
              </a:xfrm>
              <a:prstGeom prst="irregularSeal2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5" name="Rectangle 10"/>
              <p:cNvSpPr/>
              <p:nvPr/>
            </p:nvSpPr>
            <p:spPr>
              <a:xfrm rot="21344400">
                <a:off x="990720" y="3352680"/>
                <a:ext cx="761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ffffff"/>
                    </a:solidFill>
                    <a:latin typeface="楷体_GB2312"/>
                  </a:rPr>
                  <a:t>如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46" name="Line 13"/>
            <p:cNvSpPr/>
            <p:nvPr/>
          </p:nvSpPr>
          <p:spPr>
            <a:xfrm flipV="1">
              <a:off x="1676520" y="3276000"/>
              <a:ext cx="6095880" cy="75960"/>
            </a:xfrm>
            <a:prstGeom prst="line">
              <a:avLst/>
            </a:prstGeom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 flipV="1">
              <a:off x="2514600" y="3504600"/>
              <a:ext cx="6095880" cy="75960"/>
            </a:xfrm>
            <a:prstGeom prst="line">
              <a:avLst/>
            </a:prstGeom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S</dc:creator>
  <dc:description/>
  <dc:language>en-US</dc:language>
  <cp:lastModifiedBy>微软用户</cp:lastModifiedBy>
  <dcterms:modified xsi:type="dcterms:W3CDTF">2015-10-08T08:30:12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