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DF4F-CC22-480D-B34B-1AABF03FE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0269-B64F-4F47-901B-3CBCDC9B4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41B9-63C0-47BE-ABED-D2EE65745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177D-6B46-4C0F-973B-760EA0460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CCFC-2283-4A69-BB86-D5455F099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C380-9309-40CE-8010-273220CCA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836E-91BD-42FA-96BE-42931E50E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541A-9A59-4A93-A6E9-DB717E7DC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26ED-4D93-47A1-9AAF-03EBF88F0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0626-BCCF-4F37-984F-2EA19252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174E-4209-4CDA-824F-FC192C5D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2E1C-1DBB-4BAD-AC92-17F34D8D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2241-432D-46B0-B0A9-10EEC8F0306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&#35199;&#24314;&#22823;&#26723;&#26696;&#31227;&#20132;&#21333;.xls" TargetMode="External"/><Relationship Id="rId3" Type="http://schemas.openxmlformats.org/officeDocument/2006/relationships/hyperlink" Target="&#35199;&#24314;&#22823;&#26723;&#26696;&#31227;&#20132;&#21333;.xls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&#21367;&#20869;&#30446;&#24405;(&#26631;&#20934;).xls" TargetMode="External"/><Relationship Id="rId3" Type="http://schemas.openxmlformats.org/officeDocument/2006/relationships/hyperlink" Target="&#22522;&#24314;&#21367;&#20869;&#30446;&#24405;(&#26631;&#20934;).xls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88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楷体"/>
                <a:ea typeface="楷体"/>
              </a:rPr>
              <a:t>西建大基建档案业务</a:t>
            </a:r>
            <a:br>
              <a:rPr sz="6000"/>
            </a:br>
            <a:r>
              <a:rPr b="1" lang="zh-CN" sz="6000" spc="-1" strike="noStrike">
                <a:solidFill>
                  <a:srgbClr val="ffffff"/>
                </a:solidFill>
                <a:latin typeface="楷体"/>
                <a:ea typeface="楷体"/>
              </a:rPr>
              <a:t>培训讲座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537336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楷体"/>
              <a:ea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5480" y="785880"/>
            <a:ext cx="8429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黑体"/>
                <a:ea typeface="黑体"/>
              </a:rPr>
              <a:t>三、填写卷皮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23640" y="1628280"/>
            <a:ext cx="84294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档案馆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不填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缩微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不填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案卷题名（字数不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字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文字材料：责任者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问题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文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如：西安建筑科技大学关于草堂校区征地的批复及会议纪要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图纸类：项目名称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图纸名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如：西建大综合实验大楼土建竣工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5480" y="785880"/>
            <a:ext cx="8429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黑体"/>
                <a:ea typeface="黑体"/>
              </a:rPr>
              <a:t>三、填写卷皮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23640" y="1628280"/>
            <a:ext cx="84294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归档单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建设工程指挥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起止日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012.02.13-2012.12.2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保管期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永久、长期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6-3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年）、短期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年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一般施工图预算为短期；管理性文件为永久；竣工图为永久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）密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需要保密的案卷，按划定的密级填写，一般不填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0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5480" y="785880"/>
            <a:ext cx="8429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黑体"/>
                <a:ea typeface="黑体"/>
              </a:rPr>
              <a:t>四、填写移交单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23640" y="1628280"/>
            <a:ext cx="84294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移交单式样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西安建筑科技大学移交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参见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移交单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.xsl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文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注：移交单一式三份，分别由施工单位给基建处移交，基建处给档案室移交，各单位移交人和接收人签字盖章后，双方各持一份，作为移交凭证，以备查考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68360" y="2998800"/>
          <a:ext cx="8497800" cy="1222200"/>
        </p:xfrm>
        <a:graphic>
          <a:graphicData uri="http://schemas.openxmlformats.org/drawingml/2006/table">
            <a:tbl>
              <a:tblPr/>
              <a:tblGrid>
                <a:gridCol w="1212840"/>
                <a:gridCol w="1407960"/>
                <a:gridCol w="1017720"/>
                <a:gridCol w="1455840"/>
                <a:gridCol w="973080"/>
                <a:gridCol w="1212840"/>
                <a:gridCol w="1217520"/>
              </a:tblGrid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序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案卷标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页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归档日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期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密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备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0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250560" y="1125000"/>
            <a:ext cx="8429400" cy="514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Calibri"/>
              </a:rPr>
              <a:t>谢   谢！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0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34920" y="980640"/>
            <a:ext cx="4815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提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" name="Group 31"/>
          <p:cNvGrpSpPr/>
          <p:nvPr/>
        </p:nvGrpSpPr>
        <p:grpSpPr>
          <a:xfrm>
            <a:off x="4198320" y="1628640"/>
            <a:ext cx="1453320" cy="459720"/>
            <a:chOff x="4198320" y="1628640"/>
            <a:chExt cx="1453320" cy="459720"/>
          </a:xfrm>
        </p:grpSpPr>
        <p:sp>
          <p:nvSpPr>
            <p:cNvPr id="45" name="AutoShape 19"/>
            <p:cNvSpPr/>
            <p:nvPr/>
          </p:nvSpPr>
          <p:spPr>
            <a:xfrm>
              <a:off x="4572000" y="1700280"/>
              <a:ext cx="1079640" cy="360360"/>
            </a:xfrm>
            <a:prstGeom prst="roundRect">
              <a:avLst>
                <a:gd name="adj" fmla="val 16667"/>
              </a:avLst>
            </a:prstGeom>
            <a:solidFill>
              <a:srgbClr val="f7e71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c00000"/>
                  </a:solidFill>
                  <a:latin typeface="Arial"/>
                  <a:ea typeface="楷体"/>
                </a:rPr>
                <a:t>收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Text Box 30"/>
            <p:cNvSpPr/>
            <p:nvPr/>
          </p:nvSpPr>
          <p:spPr>
            <a:xfrm>
              <a:off x="4198320" y="162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楷体"/>
                  <a:ea typeface="楷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Group 35"/>
          <p:cNvGrpSpPr/>
          <p:nvPr/>
        </p:nvGrpSpPr>
        <p:grpSpPr>
          <a:xfrm>
            <a:off x="4198320" y="2055960"/>
            <a:ext cx="2244960" cy="3606480"/>
            <a:chOff x="4198320" y="2055960"/>
            <a:chExt cx="2244960" cy="3606480"/>
          </a:xfrm>
        </p:grpSpPr>
        <p:grpSp>
          <p:nvGrpSpPr>
            <p:cNvPr id="48" name="Organization Chart 4"/>
            <p:cNvGrpSpPr/>
            <p:nvPr/>
          </p:nvGrpSpPr>
          <p:grpSpPr>
            <a:xfrm>
              <a:off x="4572000" y="2133720"/>
              <a:ext cx="1871280" cy="3528720"/>
              <a:chOff x="4572000" y="2133720"/>
              <a:chExt cx="1871280" cy="3528720"/>
            </a:xfrm>
          </p:grpSpPr>
          <p:cxnSp>
            <p:nvCxnSpPr>
              <p:cNvPr id="49" name="_s1028"/>
              <p:cNvCxnSpPr>
                <a:stCxn id="50" idx="1"/>
                <a:endCxn id="51" idx="2"/>
              </p:cNvCxnSpPr>
              <p:nvPr/>
            </p:nvCxnSpPr>
            <p:spPr>
              <a:xfrm rot="10800000">
                <a:off x="5133960" y="2485800"/>
                <a:ext cx="186480" cy="3000960"/>
              </a:xfrm>
              <a:prstGeom prst="bentConnector2">
                <a:avLst/>
              </a:prstGeom>
              <a:ln w="28440">
                <a:solidFill>
                  <a:srgbClr val="540000"/>
                </a:solidFill>
                <a:miter/>
              </a:ln>
            </p:spPr>
          </p:cxnSp>
          <p:cxnSp>
            <p:nvCxnSpPr>
              <p:cNvPr id="52" name="_s1029"/>
              <p:cNvCxnSpPr>
                <a:stCxn id="53" idx="1"/>
                <a:endCxn id="51" idx="2"/>
              </p:cNvCxnSpPr>
              <p:nvPr/>
            </p:nvCxnSpPr>
            <p:spPr>
              <a:xfrm rot="10800000">
                <a:off x="5133960" y="2485800"/>
                <a:ext cx="186480" cy="2471760"/>
              </a:xfrm>
              <a:prstGeom prst="bentConnector2">
                <a:avLst/>
              </a:prstGeom>
              <a:ln w="28440">
                <a:solidFill>
                  <a:srgbClr val="540000"/>
                </a:solidFill>
                <a:miter/>
              </a:ln>
            </p:spPr>
          </p:cxnSp>
          <p:cxnSp>
            <p:nvCxnSpPr>
              <p:cNvPr id="54" name="_s1030"/>
              <p:cNvCxnSpPr>
                <a:stCxn id="55" idx="1"/>
                <a:endCxn id="51" idx="2"/>
              </p:cNvCxnSpPr>
              <p:nvPr/>
            </p:nvCxnSpPr>
            <p:spPr>
              <a:xfrm rot="10800000">
                <a:off x="5133960" y="2485800"/>
                <a:ext cx="186480" cy="1941480"/>
              </a:xfrm>
              <a:prstGeom prst="bentConnector2">
                <a:avLst/>
              </a:prstGeom>
              <a:ln w="28440">
                <a:solidFill>
                  <a:srgbClr val="540000"/>
                </a:solidFill>
                <a:miter/>
              </a:ln>
            </p:spPr>
          </p:cxnSp>
          <p:cxnSp>
            <p:nvCxnSpPr>
              <p:cNvPr id="56" name="_s1031"/>
              <p:cNvCxnSpPr>
                <a:stCxn id="57" idx="1"/>
                <a:endCxn id="51" idx="2"/>
              </p:cNvCxnSpPr>
              <p:nvPr/>
            </p:nvCxnSpPr>
            <p:spPr>
              <a:xfrm rot="10800000">
                <a:off x="5133960" y="2485800"/>
                <a:ext cx="186480" cy="1411920"/>
              </a:xfrm>
              <a:prstGeom prst="bentConnector2">
                <a:avLst/>
              </a:prstGeom>
              <a:ln w="28440">
                <a:solidFill>
                  <a:srgbClr val="540000"/>
                </a:solidFill>
                <a:miter/>
              </a:ln>
            </p:spPr>
          </p:cxnSp>
          <p:cxnSp>
            <p:nvCxnSpPr>
              <p:cNvPr id="58" name="_s1032"/>
              <p:cNvCxnSpPr>
                <a:stCxn id="59" idx="1"/>
                <a:endCxn id="51" idx="2"/>
              </p:cNvCxnSpPr>
              <p:nvPr/>
            </p:nvCxnSpPr>
            <p:spPr>
              <a:xfrm rot="10800000">
                <a:off x="5133960" y="2485800"/>
                <a:ext cx="186480" cy="882720"/>
              </a:xfrm>
              <a:prstGeom prst="bentConnector2">
                <a:avLst/>
              </a:prstGeom>
              <a:ln w="28440">
                <a:solidFill>
                  <a:srgbClr val="540000"/>
                </a:solidFill>
                <a:miter/>
              </a:ln>
            </p:spPr>
          </p:cxnSp>
          <p:cxnSp>
            <p:nvCxnSpPr>
              <p:cNvPr id="60" name="_s1033"/>
              <p:cNvCxnSpPr>
                <a:stCxn id="61" idx="1"/>
                <a:endCxn id="51" idx="2"/>
              </p:cNvCxnSpPr>
              <p:nvPr/>
            </p:nvCxnSpPr>
            <p:spPr>
              <a:xfrm rot="10800000">
                <a:off x="5133960" y="2485800"/>
                <a:ext cx="186480" cy="353520"/>
              </a:xfrm>
              <a:prstGeom prst="bentConnector2">
                <a:avLst/>
              </a:prstGeom>
              <a:ln w="28440">
                <a:solidFill>
                  <a:srgbClr val="540000"/>
                </a:solidFill>
                <a:miter/>
              </a:ln>
            </p:spPr>
          </p:cxnSp>
          <p:sp>
            <p:nvSpPr>
              <p:cNvPr id="51" name="_s1034"/>
              <p:cNvSpPr/>
              <p:nvPr/>
            </p:nvSpPr>
            <p:spPr>
              <a:xfrm>
                <a:off x="4572000" y="2133720"/>
                <a:ext cx="1122840" cy="352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9f67f"/>
                  </a:gs>
                  <a:gs pos="100000">
                    <a:srgbClr val="ffcc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100" spc="-1" strike="noStrike">
                    <a:solidFill>
                      <a:srgbClr val="c00000"/>
                    </a:solidFill>
                    <a:latin typeface="楷体"/>
                    <a:ea typeface="楷体"/>
                  </a:rPr>
                  <a:t>整理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_s1035"/>
              <p:cNvSpPr/>
              <p:nvPr/>
            </p:nvSpPr>
            <p:spPr>
              <a:xfrm>
                <a:off x="5320440" y="2662920"/>
                <a:ext cx="1122840" cy="352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66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楷体"/>
                  </a:rPr>
                  <a:t>分类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_s1036"/>
              <p:cNvSpPr/>
              <p:nvPr/>
            </p:nvSpPr>
            <p:spPr>
              <a:xfrm>
                <a:off x="5320440" y="3192120"/>
                <a:ext cx="1122840" cy="352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66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楷体"/>
                  </a:rPr>
                  <a:t>组卷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_s1037"/>
              <p:cNvSpPr/>
              <p:nvPr/>
            </p:nvSpPr>
            <p:spPr>
              <a:xfrm>
                <a:off x="5320440" y="3721680"/>
                <a:ext cx="1122840" cy="352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66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楷体"/>
                  </a:rPr>
                  <a:t>排列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_s1038"/>
              <p:cNvSpPr/>
              <p:nvPr/>
            </p:nvSpPr>
            <p:spPr>
              <a:xfrm>
                <a:off x="5320440" y="4250880"/>
                <a:ext cx="1121760" cy="352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66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"/>
                  </a:rPr>
                  <a:t>编号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_s1039"/>
              <p:cNvSpPr/>
              <p:nvPr/>
            </p:nvSpPr>
            <p:spPr>
              <a:xfrm>
                <a:off x="5320440" y="4780080"/>
                <a:ext cx="1121760" cy="352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66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"/>
                  </a:rPr>
                  <a:t>编目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_s1040"/>
              <p:cNvSpPr/>
              <p:nvPr/>
            </p:nvSpPr>
            <p:spPr>
              <a:xfrm>
                <a:off x="5320440" y="5309640"/>
                <a:ext cx="1121760" cy="352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66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"/>
                  </a:rPr>
                  <a:t>装订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Text Box 32"/>
            <p:cNvSpPr/>
            <p:nvPr/>
          </p:nvSpPr>
          <p:spPr>
            <a:xfrm>
              <a:off x="4198320" y="20559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楷体"/>
                  <a:ea typeface="楷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34"/>
          <p:cNvGrpSpPr/>
          <p:nvPr/>
        </p:nvGrpSpPr>
        <p:grpSpPr>
          <a:xfrm>
            <a:off x="4127040" y="5661000"/>
            <a:ext cx="2462760" cy="459720"/>
            <a:chOff x="4127040" y="5661000"/>
            <a:chExt cx="2462760" cy="459720"/>
          </a:xfrm>
        </p:grpSpPr>
        <p:sp>
          <p:nvSpPr>
            <p:cNvPr id="64" name="AutoShape 20"/>
            <p:cNvSpPr/>
            <p:nvPr/>
          </p:nvSpPr>
          <p:spPr>
            <a:xfrm>
              <a:off x="4500720" y="5734080"/>
              <a:ext cx="2089080" cy="360360"/>
            </a:xfrm>
            <a:prstGeom prst="roundRect">
              <a:avLst>
                <a:gd name="adj" fmla="val 16667"/>
              </a:avLst>
            </a:prstGeom>
            <a:solidFill>
              <a:srgbClr val="f7e71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c00000"/>
                  </a:solidFill>
                  <a:latin typeface="Arial"/>
                  <a:ea typeface="楷体"/>
                </a:rPr>
                <a:t>填写案卷封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33"/>
            <p:cNvSpPr/>
            <p:nvPr/>
          </p:nvSpPr>
          <p:spPr>
            <a:xfrm>
              <a:off x="4127040" y="5661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楷体"/>
                  <a:ea typeface="楷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39"/>
          <p:cNvGrpSpPr/>
          <p:nvPr/>
        </p:nvGrpSpPr>
        <p:grpSpPr>
          <a:xfrm>
            <a:off x="4127760" y="6093000"/>
            <a:ext cx="2047680" cy="459720"/>
            <a:chOff x="4127760" y="6093000"/>
            <a:chExt cx="2047680" cy="459720"/>
          </a:xfrm>
        </p:grpSpPr>
        <p:sp>
          <p:nvSpPr>
            <p:cNvPr id="67" name="AutoShape 37"/>
            <p:cNvSpPr/>
            <p:nvPr/>
          </p:nvSpPr>
          <p:spPr>
            <a:xfrm>
              <a:off x="4500720" y="6165720"/>
              <a:ext cx="1674720" cy="360360"/>
            </a:xfrm>
            <a:prstGeom prst="roundRect">
              <a:avLst>
                <a:gd name="adj" fmla="val 16667"/>
              </a:avLst>
            </a:prstGeom>
            <a:solidFill>
              <a:srgbClr val="f7e71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c00000"/>
                  </a:solidFill>
                  <a:latin typeface="Arial"/>
                  <a:ea typeface="楷体"/>
                </a:rPr>
                <a:t>填写移交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38"/>
            <p:cNvSpPr/>
            <p:nvPr/>
          </p:nvSpPr>
          <p:spPr>
            <a:xfrm>
              <a:off x="4127760" y="6093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楷体"/>
                  <a:ea typeface="楷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480" y="785880"/>
            <a:ext cx="8429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黑体"/>
                <a:ea typeface="黑体"/>
              </a:rPr>
              <a:t>一、收集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285480" y="1714680"/>
            <a:ext cx="842940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综合管理文件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针对基建部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工程准备阶段文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设计阶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施工阶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竣工验收阶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使用维护阶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监理文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" name="Group 6"/>
          <p:cNvGrpSpPr/>
          <p:nvPr/>
        </p:nvGrpSpPr>
        <p:grpSpPr>
          <a:xfrm>
            <a:off x="3635280" y="2565360"/>
            <a:ext cx="2294640" cy="2664000"/>
            <a:chOff x="3635280" y="2565360"/>
            <a:chExt cx="2294640" cy="2664000"/>
          </a:xfrm>
        </p:grpSpPr>
        <p:sp>
          <p:nvSpPr>
            <p:cNvPr id="72" name="AutoShape 4"/>
            <p:cNvSpPr/>
            <p:nvPr/>
          </p:nvSpPr>
          <p:spPr>
            <a:xfrm>
              <a:off x="3635280" y="2565360"/>
              <a:ext cx="439920" cy="2664000"/>
            </a:xfrm>
            <a:custGeom>
              <a:avLst/>
              <a:gdLst>
                <a:gd name="textAreaLeft" fmla="*/ 0 w 439920"/>
                <a:gd name="textAreaRight" fmla="*/ 158760 w 439920"/>
                <a:gd name="textAreaTop" fmla="*/ 69480 h 2664000"/>
                <a:gd name="textAreaBottom" fmla="*/ 2594520 h 266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5"/>
            <p:cNvSpPr/>
            <p:nvPr/>
          </p:nvSpPr>
          <p:spPr>
            <a:xfrm>
              <a:off x="4651920" y="363852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针对施工部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5480" y="785880"/>
            <a:ext cx="8429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黑体"/>
                <a:ea typeface="黑体"/>
              </a:rPr>
              <a:t>二、整理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323640" y="1628280"/>
            <a:ext cx="84294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分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按基建工程性质分类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按工程项目或建设项目分类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注：分类后应对归档的文字材料或图纸进行区分保管期限，划分为：永久、长期、短期三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组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组卷原则：同一项目、同一阶段、同一期限、厚度适中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2cm,3cm,5c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不等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5480" y="785880"/>
            <a:ext cx="8429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黑体"/>
                <a:ea typeface="黑体"/>
              </a:rPr>
              <a:t>二、整理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323640" y="1628280"/>
            <a:ext cx="84294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卷内文件排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按基建文件材料形成时间的先后和文件的重要程度来排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批复在前，请示在后，正文在前，底稿在后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图纸的排列。有图纸目录的，按原目录排列；没有图纸目录的，可按以下顺序排：总体布置图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平面图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立面图、剖面图—大样图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文字和图纸交错排列。一般文字材料在前，图纸在后。若文字材料是对图纸的补充说明，则图纸在前，文字在后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5480" y="785880"/>
            <a:ext cx="8429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黑体"/>
                <a:ea typeface="黑体"/>
              </a:rPr>
              <a:t>二、整理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323640" y="1628280"/>
            <a:ext cx="84294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卷内文件编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编写卷内页号，要用号码机打印页号；正面右下角，背面左下角；用三位数编写页号，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0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开始；有文字的全部编号，不得有漏号、重号，号码字迹要清楚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拆钉、切齐、托大规格为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97mm X 210m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图纸采用手风琴式折叠法，先竖后横折叠整齐，并使图标栏位于右下角可直接看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85480" y="785880"/>
            <a:ext cx="8429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黑体"/>
                <a:ea typeface="黑体"/>
              </a:rPr>
              <a:t>二、整理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323640" y="1628280"/>
            <a:ext cx="84294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卷内目录的填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卷内目录的格式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卷内目录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参见：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宋体"/>
                <a:hlinkClick r:id="rId2"/>
              </a:rPr>
              <a:t>文件卷内目录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宋体"/>
                <a:hlinkClick r:id="rId3"/>
              </a:rPr>
              <a:t>基建图纸卷内目录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有些图纸单独组卷且已有图纸目录的，应保留其目录，可不再编制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卷内目录打印一式两份，一份随档案装订，一份移交到综合档案室装订成检索目录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68360" y="3213000"/>
          <a:ext cx="7632720" cy="503280"/>
        </p:xfrm>
        <a:graphic>
          <a:graphicData uri="http://schemas.openxmlformats.org/drawingml/2006/table">
            <a:tbl>
              <a:tblPr/>
              <a:tblGrid>
                <a:gridCol w="718920"/>
                <a:gridCol w="1513080"/>
                <a:gridCol w="1079640"/>
                <a:gridCol w="1512720"/>
                <a:gridCol w="1295280"/>
                <a:gridCol w="792360"/>
                <a:gridCol w="72072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序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文（图）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责任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题（图）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形成日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页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备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5480" y="785880"/>
            <a:ext cx="8429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黑体"/>
                <a:ea typeface="黑体"/>
              </a:rPr>
              <a:t>二、整理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23640" y="1628280"/>
            <a:ext cx="84294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卷内备考表的填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标明卷内文件材料的件数、页数以及在组卷和案卷使用过程中需要说明的情况，还必须有立卷人、检查人及立卷时间的签写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装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装订顺序：卷内目录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卷内文件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备考表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取齐左边、下边，采用三孔一线装订法，在两头边距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7c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处打孔，中间孔在两边的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/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处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卷内材料折叠成统一规格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97mm X 210m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图纸装订边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5m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且要加垫纸板并包脊背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5480" y="785880"/>
            <a:ext cx="8429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黑体"/>
                <a:ea typeface="黑体"/>
              </a:rPr>
              <a:t>三、填写卷皮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23640" y="1628280"/>
            <a:ext cx="84294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档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基建档号采用：年度号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基建档案分类号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案卷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年度：管理性材料按自然年度，项目材料按竣工年度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基建档案分类号：由一级分类号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JJ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二级分类号（项目名称首字母拼成）组合而成，例如：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JJ1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JJXZ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案卷号：同一项目案卷的排列按五个阶段顺序排列，同一阶段的文字材料在前，图纸在后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012-JJXZL-0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9T02:22:52Z</dcterms:created>
  <dc:creator>Drowningeye</dc:creator>
  <dc:description/>
  <dc:language>en-US</dc:language>
  <cp:lastModifiedBy>微软用户</cp:lastModifiedBy>
  <dcterms:modified xsi:type="dcterms:W3CDTF">2015-10-08T08:29:31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42</vt:lpwstr>
  </property>
</Properties>
</file>